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1760" y="76320"/>
            <a:ext cx="9713880" cy="6553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3800" y="6353280"/>
            <a:ext cx="18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2316240" y="6321600"/>
            <a:ext cx="189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439120" y="6480"/>
            <a:ext cx="812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OPSLA 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1480" y="1359000"/>
            <a:ext cx="925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HotDraw - Patterns Appli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nt Be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Class Software</a:t>
            </a:r>
            <a:br>
              <a:rPr sz="18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ich Gam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 Technology International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HotDraw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3920" y="1003320"/>
            <a:ext cx="52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86280" y="1671480"/>
            <a:ext cx="4894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5529240" y="3986280"/>
            <a:ext cx="3684600" cy="19432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u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fIsRunning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nimatable.animationSt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.sleep(fgDe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InterruptedException 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uncing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 have to keep track of their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imate existing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imation thread introduces concurrenc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641760" y="3938760"/>
            <a:ext cx="8017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552840" y="4879800"/>
            <a:ext cx="99072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074600" y="4917960"/>
            <a:ext cx="146520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ionSte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051440" y="4280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24360" y="447048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556080" y="524520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092240" y="529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2540160" y="539748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267080" y="546084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203720" y="542304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ouncing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imation is an option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 class should not know about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uncingDrawing implements the Anima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ents discover animatable interface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nstanceof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s to add support for velocity to existing Fig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7856640" y="3571920"/>
            <a:ext cx="146520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ionSte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559720" y="43308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432640" y="45212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873920" y="394956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434280" y="3586320"/>
            <a:ext cx="9111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83560" y="39117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756480" y="471168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6014880" y="5122800"/>
            <a:ext cx="17305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uncing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7289640" y="4927680"/>
            <a:ext cx="1257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89640" y="49276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590400" y="4087800"/>
            <a:ext cx="4903920" cy="118116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Anim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Drawing instanceof Animatabl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tart an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Animatable)fDrawing).startAnima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king Figure Anim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rate Figures with an AnimationDeco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uncingDrawing decorates/peels Figures when they are added/removed from the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urrency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rator filters Figure operations with synchronize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th in adverti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namically decorating objects is a hassl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dentit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6537240" y="3227400"/>
            <a:ext cx="7524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154560" y="4167360"/>
            <a:ext cx="15922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rator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952960" y="4954680"/>
            <a:ext cx="191916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ionDeco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ionSte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locit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896160" y="3568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769080" y="37591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08760" y="44956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781680" y="46861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950080" y="5315040"/>
            <a:ext cx="1920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746840" y="433080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7682040" y="4078440"/>
            <a:ext cx="106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724960" y="33782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7289640" y="337824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552600" y="5446800"/>
            <a:ext cx="522288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ynchronized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B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x, int 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oveBy(x,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ing JHotDraw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yclic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ble abstr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: Separate framework architecture from concrete implementa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ouple concrete Figure, Handle, Tool development from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HotDraw 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825480" y="4984920"/>
            <a:ext cx="4838760" cy="87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825480" y="4140360"/>
            <a:ext cx="4838760" cy="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1549440" y="3295800"/>
            <a:ext cx="4114800" cy="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2451240" y="2451240"/>
            <a:ext cx="3213000" cy="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868560" y="5005440"/>
            <a:ext cx="1700280" cy="822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tte, Comm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bleInpu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bleOutput, St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868560" y="4154400"/>
            <a:ext cx="1271520" cy="822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,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, Draw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Edit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170080" y="3825720"/>
            <a:ext cx="3454560" cy="27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DrawingView, Composite, Deco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095640" y="2990880"/>
            <a:ext cx="184320" cy="27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035760" y="2222640"/>
            <a:ext cx="386856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r layer creates upper layer objects with Facto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work layer has lots of responsibility but only littl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per layer depends almost exclusively on abstract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2895480" y="1612800"/>
            <a:ext cx="1371600" cy="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267080" y="1612800"/>
            <a:ext cx="1397160" cy="84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ramework 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31640" y="2857680"/>
            <a:ext cx="8318520" cy="612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415800" y="4406760"/>
            <a:ext cx="8334360" cy="180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1158840" y="1914480"/>
            <a:ext cx="91116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952720" y="1900080"/>
            <a:ext cx="75240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321000" y="2225520"/>
            <a:ext cx="0" cy="11955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89240" y="25322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070000" y="2070000"/>
            <a:ext cx="760680" cy="6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38600" y="2021040"/>
            <a:ext cx="10800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809640" y="3432240"/>
            <a:ext cx="16812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47720" y="2239920"/>
            <a:ext cx="0" cy="1197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514520" y="25113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590920" y="3427560"/>
            <a:ext cx="14749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strac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333600" y="3754440"/>
            <a:ext cx="0" cy="122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06880" y="400680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2567160" y="4987800"/>
            <a:ext cx="15526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4621320" y="2949480"/>
            <a:ext cx="46450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21276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s/Standard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use of design 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 st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fies protected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37160" y="1424160"/>
            <a:ext cx="464508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21276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work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use of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fies publi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4637160" y="4498920"/>
            <a:ext cx="46450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21276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t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us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009688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st st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93840" y="5973840"/>
            <a:ext cx="8356320" cy="32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93840" y="1309680"/>
            <a:ext cx="83563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7880" y="1316160"/>
            <a:ext cx="0" cy="466092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763120" y="1308240"/>
            <a:ext cx="0" cy="466092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592520" y="1309680"/>
            <a:ext cx="0" cy="466092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8491680" y="1228680"/>
            <a:ext cx="1409760" cy="4746600"/>
            <a:chOff x="8491680" y="1228680"/>
            <a:chExt cx="1409760" cy="4746600"/>
          </a:xfrm>
        </p:grpSpPr>
        <p:sp>
          <p:nvSpPr>
            <p:cNvPr id="1168" name=""/>
            <p:cNvSpPr/>
            <p:nvPr/>
          </p:nvSpPr>
          <p:spPr>
            <a:xfrm>
              <a:off x="9064800" y="1228680"/>
              <a:ext cx="0" cy="4746600"/>
            </a:xfrm>
            <a:prstGeom prst="line">
              <a:avLst/>
            </a:prstGeom>
            <a:ln w="25560">
              <a:solidFill>
                <a:srgbClr val="3365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8491680" y="3270240"/>
              <a:ext cx="14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5fb"/>
                  </a:solidFill>
                  <a:latin typeface="Arial"/>
                  <a:ea typeface="Arial"/>
                </a:rPr>
                <a:t>more concr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8986680" y="1233360"/>
            <a:ext cx="1182600" cy="4746600"/>
            <a:chOff x="8986680" y="1233360"/>
            <a:chExt cx="1182600" cy="4746600"/>
          </a:xfrm>
        </p:grpSpPr>
        <p:sp>
          <p:nvSpPr>
            <p:cNvPr id="1171" name=""/>
            <p:cNvSpPr/>
            <p:nvPr/>
          </p:nvSpPr>
          <p:spPr>
            <a:xfrm>
              <a:off x="9441000" y="1233360"/>
              <a:ext cx="0" cy="4746600"/>
            </a:xfrm>
            <a:prstGeom prst="line">
              <a:avLst/>
            </a:prstGeom>
            <a:ln w="25560">
              <a:solidFill>
                <a:srgbClr val="3365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8986680" y="3160800"/>
              <a:ext cx="11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5fb"/>
                  </a:solidFill>
                  <a:latin typeface="Arial"/>
                  <a:ea typeface="Arial"/>
                </a:rPr>
                <a:t>more s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set: Framework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lots of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s define the framework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ivered framework should work out of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s, default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lo Wor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“Hello World” as simpl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Hello World or Noth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framework and helpe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lasses do you need to explain the frame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"/>
          <p:cNvGrpSpPr/>
          <p:nvPr/>
        </p:nvGrpSpPr>
        <p:grpSpPr>
          <a:xfrm>
            <a:off x="458640" y="990720"/>
            <a:ext cx="4849920" cy="431640"/>
            <a:chOff x="458640" y="990720"/>
            <a:chExt cx="4849920" cy="431640"/>
          </a:xfrm>
        </p:grpSpPr>
        <p:sp>
          <p:nvSpPr>
            <p:cNvPr id="1176" name=""/>
            <p:cNvSpPr/>
            <p:nvPr/>
          </p:nvSpPr>
          <p:spPr>
            <a:xfrm>
              <a:off x="458640" y="990720"/>
              <a:ext cx="4849920" cy="431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503280" y="1001880"/>
              <a:ext cx="88596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05200" y="1008000"/>
              <a:ext cx="1449360" cy="87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5320" y="995400"/>
              <a:ext cx="0" cy="42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4929120" y="1308240"/>
            <a:ext cx="4849920" cy="527040"/>
            <a:chOff x="4929120" y="1308240"/>
            <a:chExt cx="4849920" cy="527040"/>
          </a:xfrm>
        </p:grpSpPr>
        <p:sp>
          <p:nvSpPr>
            <p:cNvPr id="1181" name=""/>
            <p:cNvSpPr/>
            <p:nvPr/>
          </p:nvSpPr>
          <p:spPr>
            <a:xfrm>
              <a:off x="4929120" y="1308240"/>
              <a:ext cx="484992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 txBox="1"/>
            <p:nvPr/>
          </p:nvSpPr>
          <p:spPr>
            <a:xfrm>
              <a:off x="4948200" y="131760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site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75680" y="1322280"/>
              <a:ext cx="1449360" cy="7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75440" y="130968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C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8223120" y="5318280"/>
            <a:ext cx="144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4713120" y="1638360"/>
            <a:ext cx="4849920" cy="1515960"/>
            <a:chOff x="4713120" y="1638360"/>
            <a:chExt cx="4849920" cy="1515960"/>
          </a:xfrm>
        </p:grpSpPr>
        <p:sp>
          <p:nvSpPr>
            <p:cNvPr id="1188" name=""/>
            <p:cNvSpPr/>
            <p:nvPr/>
          </p:nvSpPr>
          <p:spPr>
            <a:xfrm>
              <a:off x="4713120" y="1638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4732200" y="1677960"/>
              <a:ext cx="207504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 itsel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display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figure attrib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 about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e Hand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59680" y="169848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59800" y="163980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930240" y="1727280"/>
            <a:ext cx="3693960" cy="519120"/>
            <a:chOff x="930240" y="1727280"/>
            <a:chExt cx="3693960" cy="519120"/>
          </a:xfrm>
        </p:grpSpPr>
        <p:sp>
          <p:nvSpPr>
            <p:cNvPr id="1193" name=""/>
            <p:cNvSpPr/>
            <p:nvPr/>
          </p:nvSpPr>
          <p:spPr>
            <a:xfrm>
              <a:off x="930240" y="1727280"/>
              <a:ext cx="369396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998640" y="1728720"/>
              <a:ext cx="12510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rack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65520" y="1736640"/>
              <a:ext cx="93024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3645000" y="1731960"/>
              <a:ext cx="1440" cy="36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600120" y="1979640"/>
            <a:ext cx="3693960" cy="519120"/>
            <a:chOff x="600120" y="1979640"/>
            <a:chExt cx="3693960" cy="519120"/>
          </a:xfrm>
        </p:grpSpPr>
        <p:sp>
          <p:nvSpPr>
            <p:cNvPr id="1198" name=""/>
            <p:cNvSpPr/>
            <p:nvPr/>
          </p:nvSpPr>
          <p:spPr>
            <a:xfrm>
              <a:off x="600120" y="1981080"/>
              <a:ext cx="369396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665280" y="1981080"/>
              <a:ext cx="7761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 txBox="1"/>
            <p:nvPr/>
          </p:nvSpPr>
          <p:spPr>
            <a:xfrm>
              <a:off x="3333600" y="1979640"/>
              <a:ext cx="930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3314880" y="1987560"/>
              <a:ext cx="144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"/>
          <p:cNvSpPr txBox="1"/>
          <p:nvPr/>
        </p:nvSpPr>
        <p:spPr>
          <a:xfrm>
            <a:off x="7693200" y="338760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179280" y="3595680"/>
            <a:ext cx="4849920" cy="532080"/>
            <a:chOff x="179280" y="3595680"/>
            <a:chExt cx="4849920" cy="532080"/>
          </a:xfrm>
        </p:grpSpPr>
        <p:sp>
          <p:nvSpPr>
            <p:cNvPr id="1204" name=""/>
            <p:cNvSpPr/>
            <p:nvPr/>
          </p:nvSpPr>
          <p:spPr>
            <a:xfrm>
              <a:off x="179280" y="3597120"/>
              <a:ext cx="4849920" cy="441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236520" y="3610080"/>
              <a:ext cx="12906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38560" y="35956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586400" y="3289320"/>
            <a:ext cx="4849920" cy="1515960"/>
            <a:chOff x="4586400" y="3289320"/>
            <a:chExt cx="4849920" cy="1515960"/>
          </a:xfrm>
        </p:grpSpPr>
        <p:sp>
          <p:nvSpPr>
            <p:cNvPr id="1208" name=""/>
            <p:cNvSpPr/>
            <p:nvPr/>
          </p:nvSpPr>
          <p:spPr>
            <a:xfrm>
              <a:off x="4586400" y="328932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4603680" y="3330720"/>
              <a:ext cx="1174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se 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932600" y="334980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32720" y="329076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16000" y="5765760"/>
            <a:ext cx="4849920" cy="378000"/>
            <a:chOff x="216000" y="5765760"/>
            <a:chExt cx="4849920" cy="378000"/>
          </a:xfrm>
        </p:grpSpPr>
        <p:sp>
          <p:nvSpPr>
            <p:cNvPr id="1213" name=""/>
            <p:cNvSpPr/>
            <p:nvPr/>
          </p:nvSpPr>
          <p:spPr>
            <a:xfrm>
              <a:off x="216000" y="5765760"/>
              <a:ext cx="4849920" cy="3556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282600" y="5830920"/>
              <a:ext cx="1498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date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37000" y="583884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87880" y="5767560"/>
              <a:ext cx="1440" cy="35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 txBox="1"/>
          <p:nvPr/>
        </p:nvSpPr>
        <p:spPr>
          <a:xfrm>
            <a:off x="7816680" y="1724040"/>
            <a:ext cx="17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230040" y="4127400"/>
            <a:ext cx="4849920" cy="1511280"/>
            <a:chOff x="230040" y="4127400"/>
            <a:chExt cx="4849920" cy="1511280"/>
          </a:xfrm>
        </p:grpSpPr>
        <p:sp>
          <p:nvSpPr>
            <p:cNvPr id="1219" name=""/>
            <p:cNvSpPr/>
            <p:nvPr/>
          </p:nvSpPr>
          <p:spPr>
            <a:xfrm>
              <a:off x="230040" y="4127400"/>
              <a:ext cx="4849920" cy="1511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 txBox="1"/>
            <p:nvPr/>
          </p:nvSpPr>
          <p:spPr>
            <a:xfrm>
              <a:off x="247680" y="4168800"/>
              <a:ext cx="16891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cute an 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76600" y="4187880"/>
              <a:ext cx="1449360" cy="30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76720" y="4129200"/>
              <a:ext cx="0" cy="150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4789440" y="4305240"/>
            <a:ext cx="4849920" cy="1515960"/>
            <a:chOff x="4789440" y="4305240"/>
            <a:chExt cx="4849920" cy="1515960"/>
          </a:xfrm>
        </p:grpSpPr>
        <p:grpSp>
          <p:nvGrpSpPr>
            <p:cNvPr id="1224" name=""/>
            <p:cNvGrpSpPr/>
            <p:nvPr/>
          </p:nvGrpSpPr>
          <p:grpSpPr>
            <a:xfrm>
              <a:off x="4789440" y="4305240"/>
              <a:ext cx="4849920" cy="1515960"/>
              <a:chOff x="4789440" y="4305240"/>
              <a:chExt cx="4849920" cy="1515960"/>
            </a:xfrm>
          </p:grpSpPr>
          <p:sp>
            <p:nvSpPr>
              <p:cNvPr id="1225" name=""/>
              <p:cNvSpPr/>
              <p:nvPr/>
            </p:nvSpPr>
            <p:spPr>
              <a:xfrm>
                <a:off x="4789440" y="4305240"/>
                <a:ext cx="4849920" cy="15159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8112240" y="4378320"/>
                <a:ext cx="1449360" cy="73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91440" indent="-9144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CP1252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aw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" indent="-9144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CP1252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awingVie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" indent="-9144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CP1252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o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861320" y="4307040"/>
                <a:ext cx="0" cy="15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 txBox="1"/>
            <p:nvPr/>
          </p:nvSpPr>
          <p:spPr>
            <a:xfrm>
              <a:off x="4857840" y="4370400"/>
              <a:ext cx="18176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Edi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e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"/>
          <p:cNvSpPr txBox="1"/>
          <p:nvPr/>
        </p:nvSpPr>
        <p:spPr>
          <a:xfrm>
            <a:off x="3308400" y="4187880"/>
            <a:ext cx="17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HotDraw: Design Pattern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62080" y="1081080"/>
            <a:ext cx="7260840" cy="4788000"/>
            <a:chOff x="262080" y="1081080"/>
            <a:chExt cx="7260840" cy="4788000"/>
          </a:xfrm>
        </p:grpSpPr>
        <p:sp>
          <p:nvSpPr>
            <p:cNvPr id="1232" name=""/>
            <p:cNvSpPr txBox="1"/>
            <p:nvPr/>
          </p:nvSpPr>
          <p:spPr>
            <a:xfrm>
              <a:off x="6246720" y="5538960"/>
              <a:ext cx="127620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6880320" y="4772160"/>
              <a:ext cx="6120" cy="75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67640" y="5060880"/>
              <a:ext cx="248040" cy="152640"/>
            </a:xfrm>
            <a:custGeom>
              <a:avLst/>
              <a:gdLst/>
              <a:ahLst/>
              <a:rect l="0" t="0" r="r" b="b"/>
              <a:pathLst>
                <a:path w="689" h="424">
                  <a:moveTo>
                    <a:pt x="0" y="424"/>
                  </a:moveTo>
                  <a:lnTo>
                    <a:pt x="689" y="424"/>
                  </a:lnTo>
                  <a:lnTo>
                    <a:pt x="344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262080" y="1081080"/>
              <a:ext cx="7010280" cy="4040280"/>
              <a:chOff x="262080" y="1081080"/>
              <a:chExt cx="7010280" cy="4040280"/>
            </a:xfrm>
          </p:grpSpPr>
          <p:sp>
            <p:nvSpPr>
              <p:cNvPr id="1236" name=""/>
              <p:cNvSpPr txBox="1"/>
              <p:nvPr/>
            </p:nvSpPr>
            <p:spPr>
              <a:xfrm>
                <a:off x="3009960" y="3695760"/>
                <a:ext cx="186228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apter: Adapte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7" name=""/>
              <p:cNvGrpSpPr/>
              <p:nvPr/>
            </p:nvGrpSpPr>
            <p:grpSpPr>
              <a:xfrm>
                <a:off x="262080" y="1081080"/>
                <a:ext cx="7010280" cy="4040280"/>
                <a:chOff x="262080" y="1081080"/>
                <a:chExt cx="7010280" cy="4040280"/>
              </a:xfrm>
            </p:grpSpPr>
            <p:sp>
              <p:nvSpPr>
                <p:cNvPr id="1238" name=""/>
                <p:cNvSpPr txBox="1"/>
                <p:nvPr/>
              </p:nvSpPr>
              <p:spPr>
                <a:xfrm>
                  <a:off x="730080" y="4429080"/>
                  <a:ext cx="911160" cy="330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raw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 txBox="1"/>
                <p:nvPr/>
              </p:nvSpPr>
              <p:spPr>
                <a:xfrm>
                  <a:off x="3573360" y="4402080"/>
                  <a:ext cx="777960" cy="3556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gu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 txBox="1"/>
                <p:nvPr/>
              </p:nvSpPr>
              <p:spPr>
                <a:xfrm>
                  <a:off x="3247920" y="1941480"/>
                  <a:ext cx="1316160" cy="330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rawingView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 txBox="1"/>
                <p:nvPr/>
              </p:nvSpPr>
              <p:spPr>
                <a:xfrm>
                  <a:off x="6442200" y="4414680"/>
                  <a:ext cx="826920" cy="3556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nd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 txBox="1"/>
                <p:nvPr/>
              </p:nvSpPr>
              <p:spPr>
                <a:xfrm>
                  <a:off x="4175280" y="1081080"/>
                  <a:ext cx="1449360" cy="3556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rawingEdito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 txBox="1"/>
                <p:nvPr/>
              </p:nvSpPr>
              <p:spPr>
                <a:xfrm>
                  <a:off x="6416640" y="4062240"/>
                  <a:ext cx="85572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dap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647720" y="4673520"/>
                  <a:ext cx="18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4354560" y="4676760"/>
                  <a:ext cx="20905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1200240" y="2178000"/>
                  <a:ext cx="205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952880" y="1457280"/>
                  <a:ext cx="0" cy="51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451320" y="4621320"/>
                  <a:ext cx="109440" cy="108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 txBox="1"/>
                <p:nvPr/>
              </p:nvSpPr>
              <p:spPr>
                <a:xfrm>
                  <a:off x="3247920" y="1592280"/>
                  <a:ext cx="112248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Observer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 txBox="1"/>
                <p:nvPr/>
              </p:nvSpPr>
              <p:spPr>
                <a:xfrm>
                  <a:off x="262080" y="4816440"/>
                  <a:ext cx="187308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Observer: Subject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200240" y="2192400"/>
                  <a:ext cx="6120" cy="222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>
                  <a:off x="4568760" y="1989000"/>
                  <a:ext cx="3700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3" name=""/>
          <p:cNvGrpSpPr/>
          <p:nvPr/>
        </p:nvGrpSpPr>
        <p:grpSpPr>
          <a:xfrm>
            <a:off x="3247920" y="722160"/>
            <a:ext cx="5586480" cy="2268720"/>
            <a:chOff x="3247920" y="722160"/>
            <a:chExt cx="5586480" cy="2268720"/>
          </a:xfrm>
        </p:grpSpPr>
        <p:sp>
          <p:nvSpPr>
            <p:cNvPr id="1254" name=""/>
            <p:cNvSpPr txBox="1"/>
            <p:nvPr/>
          </p:nvSpPr>
          <p:spPr>
            <a:xfrm>
              <a:off x="4157640" y="722160"/>
              <a:ext cx="150804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ctory Meth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247920" y="1236600"/>
              <a:ext cx="5586480" cy="1754280"/>
              <a:chOff x="3247920" y="1236600"/>
              <a:chExt cx="5586480" cy="175428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5611680" y="1236600"/>
                <a:ext cx="60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3247920" y="1239840"/>
                <a:ext cx="5586480" cy="1751040"/>
                <a:chOff x="3247920" y="1239840"/>
                <a:chExt cx="5586480" cy="1751040"/>
              </a:xfrm>
            </p:grpSpPr>
            <p:sp>
              <p:nvSpPr>
                <p:cNvPr id="1258" name=""/>
                <p:cNvSpPr txBox="1"/>
                <p:nvPr/>
              </p:nvSpPr>
              <p:spPr>
                <a:xfrm>
                  <a:off x="5881680" y="1893960"/>
                  <a:ext cx="609480" cy="3556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o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 txBox="1"/>
                <p:nvPr/>
              </p:nvSpPr>
              <p:spPr>
                <a:xfrm>
                  <a:off x="3247920" y="2685960"/>
                  <a:ext cx="149868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tate:Context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 txBox="1"/>
                <p:nvPr/>
              </p:nvSpPr>
              <p:spPr>
                <a:xfrm>
                  <a:off x="6543720" y="1714680"/>
                  <a:ext cx="77616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tate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6219720" y="1239840"/>
                  <a:ext cx="3240" cy="5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767560" y="2022480"/>
                  <a:ext cx="106200" cy="10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570560" y="2077920"/>
                  <a:ext cx="1166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151680" y="1771560"/>
                  <a:ext cx="108000" cy="10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 txBox="1"/>
                <p:nvPr/>
              </p:nvSpPr>
              <p:spPr>
                <a:xfrm>
                  <a:off x="6546960" y="2071800"/>
                  <a:ext cx="2287440" cy="304920"/>
                </a:xfrm>
                <a:prstGeom prst="rect">
                  <a:avLst/>
                </a:prstGeom>
                <a:solidFill>
                  <a:srgbClr val="3365fb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actory Method: Produc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6" name=""/>
          <p:cNvGrpSpPr/>
          <p:nvPr/>
        </p:nvGrpSpPr>
        <p:grpSpPr>
          <a:xfrm>
            <a:off x="6103800" y="2230560"/>
            <a:ext cx="3337200" cy="2082960"/>
            <a:chOff x="6103800" y="2230560"/>
            <a:chExt cx="3337200" cy="2082960"/>
          </a:xfrm>
        </p:grpSpPr>
        <p:sp>
          <p:nvSpPr>
            <p:cNvPr id="1267" name=""/>
            <p:cNvSpPr/>
            <p:nvPr/>
          </p:nvSpPr>
          <p:spPr>
            <a:xfrm flipH="1">
              <a:off x="6218280" y="2230560"/>
              <a:ext cx="1440" cy="66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03800" y="2379600"/>
              <a:ext cx="248040" cy="152640"/>
            </a:xfrm>
            <a:custGeom>
              <a:avLst/>
              <a:gdLst/>
              <a:ahLst/>
              <a:rect l="0" t="0" r="r" b="b"/>
              <a:pathLst>
                <a:path w="689" h="424">
                  <a:moveTo>
                    <a:pt x="0" y="424"/>
                  </a:moveTo>
                  <a:lnTo>
                    <a:pt x="689" y="424"/>
                  </a:lnTo>
                  <a:lnTo>
                    <a:pt x="344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7086600" y="2890800"/>
              <a:ext cx="137484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ionT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7039080" y="3260880"/>
              <a:ext cx="149868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e:Context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21520" y="2600280"/>
              <a:ext cx="14634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8588520" y="3633840"/>
              <a:ext cx="85248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3520" y="3046320"/>
              <a:ext cx="57636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9029880" y="3052800"/>
              <a:ext cx="1440" cy="57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 txBox="1"/>
            <p:nvPr/>
          </p:nvSpPr>
          <p:spPr>
            <a:xfrm>
              <a:off x="8632800" y="4008600"/>
              <a:ext cx="7761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e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704000" y="260676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1606680" y="3324240"/>
            <a:ext cx="3512880" cy="3248280"/>
            <a:chOff x="1606680" y="3324240"/>
            <a:chExt cx="3512880" cy="3248280"/>
          </a:xfrm>
        </p:grpSpPr>
        <p:grpSp>
          <p:nvGrpSpPr>
            <p:cNvPr id="1278" name=""/>
            <p:cNvGrpSpPr/>
            <p:nvPr/>
          </p:nvGrpSpPr>
          <p:grpSpPr>
            <a:xfrm>
              <a:off x="1606680" y="3324240"/>
              <a:ext cx="3512880" cy="3248280"/>
              <a:chOff x="1606680" y="3324240"/>
              <a:chExt cx="3512880" cy="3248280"/>
            </a:xfrm>
          </p:grpSpPr>
          <p:sp>
            <p:nvSpPr>
              <p:cNvPr id="1279" name=""/>
              <p:cNvSpPr/>
              <p:nvPr/>
            </p:nvSpPr>
            <p:spPr>
              <a:xfrm>
                <a:off x="2362320" y="5592600"/>
                <a:ext cx="144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2973240" y="5897520"/>
                <a:ext cx="118728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3003480" y="6267600"/>
                <a:ext cx="112248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server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 txBox="1"/>
              <p:nvPr/>
            </p:nvSpPr>
            <p:spPr>
              <a:xfrm>
                <a:off x="3017880" y="4030560"/>
                <a:ext cx="187308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server: Subject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7480" y="4745160"/>
                <a:ext cx="6480" cy="83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38680" y="5181480"/>
                <a:ext cx="248040" cy="152640"/>
              </a:xfrm>
              <a:custGeom>
                <a:avLst/>
                <a:gdLst/>
                <a:ahLst/>
                <a:rect l="0" t="0" r="r" b="b"/>
                <a:pathLst>
                  <a:path w="689" h="424">
                    <a:moveTo>
                      <a:pt x="0" y="424"/>
                    </a:moveTo>
                    <a:lnTo>
                      <a:pt x="689" y="424"/>
                    </a:lnTo>
                    <a:lnTo>
                      <a:pt x="344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362320" y="5589720"/>
                <a:ext cx="2757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3591000" y="5599080"/>
                <a:ext cx="14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19560" y="558972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 txBox="1"/>
              <p:nvPr/>
            </p:nvSpPr>
            <p:spPr>
              <a:xfrm>
                <a:off x="1606680" y="3703680"/>
                <a:ext cx="109872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1635120" y="3324240"/>
                <a:ext cx="105408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-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flipV="1">
                <a:off x="2166840" y="4486320"/>
                <a:ext cx="1392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2176560" y="4032360"/>
                <a:ext cx="32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"/>
            <p:cNvSpPr txBox="1"/>
            <p:nvPr/>
          </p:nvSpPr>
          <p:spPr>
            <a:xfrm>
              <a:off x="2995560" y="3348000"/>
              <a:ext cx="188424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: Context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4265640" y="5897520"/>
            <a:ext cx="1671480" cy="675000"/>
            <a:chOff x="4265640" y="5897520"/>
            <a:chExt cx="1671480" cy="675000"/>
          </a:xfrm>
        </p:grpSpPr>
        <p:sp>
          <p:nvSpPr>
            <p:cNvPr id="1294" name=""/>
            <p:cNvSpPr txBox="1"/>
            <p:nvPr/>
          </p:nvSpPr>
          <p:spPr>
            <a:xfrm>
              <a:off x="4265640" y="5897520"/>
              <a:ext cx="167148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site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4562640" y="6267600"/>
              <a:ext cx="110340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o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833480" y="5897520"/>
            <a:ext cx="1049400" cy="675000"/>
            <a:chOff x="1833480" y="5897520"/>
            <a:chExt cx="1049400" cy="675000"/>
          </a:xfrm>
        </p:grpSpPr>
        <p:sp>
          <p:nvSpPr>
            <p:cNvPr id="1297" name=""/>
            <p:cNvSpPr txBox="1"/>
            <p:nvPr/>
          </p:nvSpPr>
          <p:spPr>
            <a:xfrm>
              <a:off x="1833480" y="5897520"/>
              <a:ext cx="104940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o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1841400" y="6267600"/>
              <a:ext cx="102384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co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365120" y="961920"/>
            <a:ext cx="3657600" cy="1684440"/>
            <a:chOff x="1365120" y="961920"/>
            <a:chExt cx="3657600" cy="1684440"/>
          </a:xfrm>
        </p:grpSpPr>
        <p:sp>
          <p:nvSpPr>
            <p:cNvPr id="1300" name=""/>
            <p:cNvSpPr txBox="1"/>
            <p:nvPr/>
          </p:nvSpPr>
          <p:spPr>
            <a:xfrm>
              <a:off x="1365120" y="1330200"/>
              <a:ext cx="152388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date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 txBox="1"/>
            <p:nvPr/>
          </p:nvSpPr>
          <p:spPr>
            <a:xfrm>
              <a:off x="1598760" y="961920"/>
              <a:ext cx="105408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2001960" y="210168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 txBox="1"/>
            <p:nvPr/>
          </p:nvSpPr>
          <p:spPr>
            <a:xfrm>
              <a:off x="3247920" y="2341440"/>
              <a:ext cx="177480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:Context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2023920" y="1657440"/>
              <a:ext cx="3240" cy="447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373640" y="2894040"/>
            <a:ext cx="2487600" cy="1663560"/>
            <a:chOff x="4373640" y="2894040"/>
            <a:chExt cx="2487600" cy="1663560"/>
          </a:xfrm>
        </p:grpSpPr>
        <p:sp>
          <p:nvSpPr>
            <p:cNvPr id="1306" name=""/>
            <p:cNvSpPr txBox="1"/>
            <p:nvPr/>
          </p:nvSpPr>
          <p:spPr>
            <a:xfrm>
              <a:off x="5554800" y="2894040"/>
              <a:ext cx="130644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T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18280" y="3225960"/>
              <a:ext cx="3240" cy="1331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4373640" y="4549680"/>
              <a:ext cx="18478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 txBox="1"/>
            <p:nvPr/>
          </p:nvSpPr>
          <p:spPr>
            <a:xfrm>
              <a:off x="5716440" y="3290760"/>
              <a:ext cx="101448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3800" y="4432320"/>
            <a:ext cx="1917720" cy="674640"/>
            <a:chOff x="7273800" y="4432320"/>
            <a:chExt cx="1917720" cy="674640"/>
          </a:xfrm>
        </p:grpSpPr>
        <p:sp>
          <p:nvSpPr>
            <p:cNvPr id="1311" name=""/>
            <p:cNvSpPr txBox="1"/>
            <p:nvPr/>
          </p:nvSpPr>
          <p:spPr>
            <a:xfrm>
              <a:off x="8120160" y="4432320"/>
              <a:ext cx="86184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3800" y="4592520"/>
              <a:ext cx="85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 txBox="1"/>
            <p:nvPr/>
          </p:nvSpPr>
          <p:spPr>
            <a:xfrm>
              <a:off x="8137440" y="4802040"/>
              <a:ext cx="105408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881760" y="5273640"/>
            <a:ext cx="1940040" cy="943200"/>
            <a:chOff x="6881760" y="5273640"/>
            <a:chExt cx="1940040" cy="943200"/>
          </a:xfrm>
        </p:grpSpPr>
        <p:sp>
          <p:nvSpPr>
            <p:cNvPr id="1315" name=""/>
            <p:cNvSpPr txBox="1"/>
            <p:nvPr/>
          </p:nvSpPr>
          <p:spPr>
            <a:xfrm>
              <a:off x="7683480" y="5538960"/>
              <a:ext cx="113832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ll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 txBox="1"/>
            <p:nvPr/>
          </p:nvSpPr>
          <p:spPr>
            <a:xfrm>
              <a:off x="7683480" y="5911920"/>
              <a:ext cx="112248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ull O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81760" y="5273640"/>
              <a:ext cx="14004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82160" y="527832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work for direct-manipulation graphics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kinds of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nipulation of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vity among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tools that operate on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cient scree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applications and ap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s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HotDraw - solving design problems with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HotDraw Patter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desig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s helped generate th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wasn’t always that clear which pattern to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s can be compet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ing the patterns is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y is knowing when and why to use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work development is still it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are targets for refinements and re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ing the used Patterns with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comments can include U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s refer to a pattern description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d documentation helps to keep pattern annotations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Feel: 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06440" y="781200"/>
            <a:ext cx="944388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hasis on simplicity (java.net, java.a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amless integration of features: serialization, thread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eyword: enables to specify transient and per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 are us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rializabl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e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: javadoc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ables simple form of literate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doc tool: understands class relationships,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s more API expl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recated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easy to be a bean” --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5367240" y="3081240"/>
            <a:ext cx="4354560" cy="3618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v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FigureContainer fContai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5373720" y="4797360"/>
            <a:ext cx="4336920" cy="13399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AbstractFigure provides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@s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@s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Feel: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is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e types are no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/Rectangles are not consistently used a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aint(int x, int y, int width, int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(int x, int y), contains(Po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royal pai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can’t compete with Smalltalk’s contro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1494000" y="4473720"/>
            <a:ext cx="5207040" cy="9032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Figure&gt;&gt;display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^self figures inject: self figures first displayBox int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:sum :each | sum merge: each displayBo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apter Implementation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tDraw 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 enab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ugg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dap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subcl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tJava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in Java the class is the quantum of behavior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- JDK1.1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JavaDraw uses subclassing to define different Adapters for different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StartHandle, LineEnd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quence: more little sub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actic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ner clas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4159080" y="2184480"/>
            <a:ext cx="5494320" cy="6066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ckHand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n: aLineFig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cator: #startPoint transformer: #startPointMove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4145040" y="4727520"/>
            <a:ext cx="5514840" cy="18288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Hand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thEa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gure owner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urn new LocatorHandle (owne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void invokeStep 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/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 Feel of Java vs. Small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tDraw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same in both langua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malltalk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re 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s, Rect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has done several things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llent support for structuring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ckage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sibilit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mless integr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ialization, portable network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enable to go beyon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and Java are a powerful 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but no language can reduce the importance of goo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tter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s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t-www.cs.uiuc.edu/users/patterns/patter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spcBef>
                <a:spcPts val="1199"/>
              </a:spcBef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 Elements of  Reusable Object-Oriented Software, E. Gamma, R. Helm, R. Johnson, J. Vlissides, Addison Wesley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spcBef>
                <a:spcPts val="1199"/>
              </a:spcBef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 Best Practice Patterns, Kent Beck, Prentice H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spcBef>
                <a:spcPts val="1199"/>
              </a:spcBef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-Oriented Software Architecture - A System of Patterns, Frank Buschmann, Regine Meunier, Hans Rohnert, Peter Sommerlad, Michael Stal. Wiley and Sons Ltd., August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spcBef>
                <a:spcPts val="1199"/>
              </a:spcBef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 Languages of Program Design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spcBef>
                <a:spcPts val="1199"/>
              </a:spcBef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Patterns, Martin Fowler,  Addison Wesley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411960" y="4289400"/>
            <a:ext cx="3049920" cy="1273680"/>
          </a:xfrm>
          <a:custGeom>
            <a:avLst/>
            <a:gdLst/>
            <a:ahLst/>
            <a:rect l="0" t="0" r="r" b="b"/>
            <a:pathLst>
              <a:path fill="none" w="8472" h="3538">
                <a:moveTo>
                  <a:pt x="0" y="0"/>
                </a:moveTo>
                <a:lnTo>
                  <a:pt x="4" y="3538"/>
                </a:lnTo>
                <a:lnTo>
                  <a:pt x="2614" y="3538"/>
                </a:lnTo>
                <a:lnTo>
                  <a:pt x="2614" y="2373"/>
                </a:lnTo>
                <a:lnTo>
                  <a:pt x="8472" y="2373"/>
                </a:lnTo>
                <a:lnTo>
                  <a:pt x="8472" y="8"/>
                </a:lnTo>
                <a:lnTo>
                  <a:pt x="198" y="13"/>
                </a:lnTo>
                <a:lnTo>
                  <a:pt x="13" y="1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6200" y="5184720"/>
            <a:ext cx="2120760" cy="4064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64640" y="494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set: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ustomizable set of cooperating classes that defines a reusable solution for a give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s key abstractions and thei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ari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of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verride and be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of desig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of a macro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work provid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4960" y="3254400"/>
            <a:ext cx="1968840" cy="619560"/>
          </a:xfrm>
          <a:custGeom>
            <a:avLst/>
            <a:gdLst/>
            <a:ahLst/>
            <a:rect l="0" t="0" r="r" b="b"/>
            <a:pathLst>
              <a:path w="5469" h="1721">
                <a:moveTo>
                  <a:pt x="0" y="0"/>
                </a:moveTo>
                <a:lnTo>
                  <a:pt x="5469" y="0"/>
                </a:lnTo>
                <a:lnTo>
                  <a:pt x="5469" y="1721"/>
                </a:lnTo>
                <a:lnTo>
                  <a:pt x="0" y="1721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4960" y="1676520"/>
            <a:ext cx="719640" cy="1537200"/>
          </a:xfrm>
          <a:custGeom>
            <a:avLst/>
            <a:gdLst/>
            <a:ahLst/>
            <a:rect l="0" t="0" r="r" b="b"/>
            <a:pathLst>
              <a:path w="1999" h="4270">
                <a:moveTo>
                  <a:pt x="0" y="0"/>
                </a:moveTo>
                <a:lnTo>
                  <a:pt x="1999" y="0"/>
                </a:lnTo>
                <a:lnTo>
                  <a:pt x="1999" y="4270"/>
                </a:lnTo>
                <a:lnTo>
                  <a:pt x="0" y="427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73880" y="1676520"/>
            <a:ext cx="1249560" cy="543240"/>
          </a:xfrm>
          <a:custGeom>
            <a:avLst/>
            <a:gdLst/>
            <a:ahLst/>
            <a:rect l="0" t="0" r="r" b="b"/>
            <a:pathLst>
              <a:path w="3471" h="1509">
                <a:moveTo>
                  <a:pt x="0" y="0"/>
                </a:moveTo>
                <a:lnTo>
                  <a:pt x="3471" y="0"/>
                </a:lnTo>
                <a:lnTo>
                  <a:pt x="3471" y="1509"/>
                </a:lnTo>
                <a:lnTo>
                  <a:pt x="0" y="1509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66000" y="3216240"/>
            <a:ext cx="316440" cy="316440"/>
          </a:xfrm>
          <a:custGeom>
            <a:avLst/>
            <a:gdLst/>
            <a:ahLst/>
            <a:rect l="0" t="0" r="r" b="b"/>
            <a:pathLst>
              <a:path w="879" h="879">
                <a:moveTo>
                  <a:pt x="455" y="879"/>
                </a:moveTo>
                <a:lnTo>
                  <a:pt x="879" y="424"/>
                </a:lnTo>
                <a:lnTo>
                  <a:pt x="667" y="424"/>
                </a:lnTo>
                <a:lnTo>
                  <a:pt x="667" y="0"/>
                </a:lnTo>
                <a:lnTo>
                  <a:pt x="247" y="0"/>
                </a:lnTo>
                <a:lnTo>
                  <a:pt x="247" y="424"/>
                </a:lnTo>
                <a:lnTo>
                  <a:pt x="0" y="424"/>
                </a:lnTo>
                <a:lnTo>
                  <a:pt x="455" y="879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2040" y="2244600"/>
            <a:ext cx="1211760" cy="972000"/>
          </a:xfrm>
          <a:custGeom>
            <a:avLst/>
            <a:gdLst/>
            <a:ahLst/>
            <a:rect l="0" t="0" r="r" b="b"/>
            <a:pathLst>
              <a:path w="3366" h="2700">
                <a:moveTo>
                  <a:pt x="0" y="0"/>
                </a:moveTo>
                <a:lnTo>
                  <a:pt x="3366" y="0"/>
                </a:lnTo>
                <a:lnTo>
                  <a:pt x="3366" y="2700"/>
                </a:lnTo>
                <a:lnTo>
                  <a:pt x="0" y="270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66000" y="2206800"/>
            <a:ext cx="316440" cy="329040"/>
          </a:xfrm>
          <a:custGeom>
            <a:avLst/>
            <a:gdLst/>
            <a:ahLst/>
            <a:rect l="0" t="0" r="r" b="b"/>
            <a:pathLst>
              <a:path w="879" h="914">
                <a:moveTo>
                  <a:pt x="455" y="914"/>
                </a:moveTo>
                <a:lnTo>
                  <a:pt x="879" y="455"/>
                </a:lnTo>
                <a:lnTo>
                  <a:pt x="667" y="455"/>
                </a:lnTo>
                <a:lnTo>
                  <a:pt x="667" y="0"/>
                </a:lnTo>
                <a:lnTo>
                  <a:pt x="247" y="0"/>
                </a:lnTo>
                <a:lnTo>
                  <a:pt x="247" y="455"/>
                </a:lnTo>
                <a:lnTo>
                  <a:pt x="0" y="455"/>
                </a:lnTo>
                <a:lnTo>
                  <a:pt x="455" y="91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067520" y="3478320"/>
            <a:ext cx="1648080" cy="304920"/>
            <a:chOff x="7067520" y="3478320"/>
            <a:chExt cx="1648080" cy="304920"/>
          </a:xfrm>
        </p:grpSpPr>
        <p:sp>
          <p:nvSpPr>
            <p:cNvPr id="147" name=""/>
            <p:cNvSpPr txBox="1"/>
            <p:nvPr/>
          </p:nvSpPr>
          <p:spPr>
            <a:xfrm>
              <a:off x="7067520" y="3478320"/>
              <a:ext cx="12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7988400" y="347832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080120" y="1862280"/>
            <a:ext cx="1573560" cy="304920"/>
            <a:chOff x="7080120" y="1862280"/>
            <a:chExt cx="1573560" cy="304920"/>
          </a:xfrm>
        </p:grpSpPr>
        <p:sp>
          <p:nvSpPr>
            <p:cNvPr id="150" name=""/>
            <p:cNvSpPr txBox="1"/>
            <p:nvPr/>
          </p:nvSpPr>
          <p:spPr>
            <a:xfrm>
              <a:off x="7080120" y="1862280"/>
              <a:ext cx="1082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7926480" y="186228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7458120" y="259380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9160" y="3216240"/>
            <a:ext cx="316440" cy="329040"/>
          </a:xfrm>
          <a:custGeom>
            <a:avLst/>
            <a:gdLst/>
            <a:ahLst/>
            <a:rect l="0" t="0" r="r" b="b"/>
            <a:pathLst>
              <a:path w="879" h="914">
                <a:moveTo>
                  <a:pt x="455" y="914"/>
                </a:moveTo>
                <a:lnTo>
                  <a:pt x="879" y="459"/>
                </a:lnTo>
                <a:lnTo>
                  <a:pt x="667" y="459"/>
                </a:lnTo>
                <a:lnTo>
                  <a:pt x="667" y="0"/>
                </a:lnTo>
                <a:lnTo>
                  <a:pt x="247" y="0"/>
                </a:lnTo>
                <a:lnTo>
                  <a:pt x="247" y="459"/>
                </a:lnTo>
                <a:lnTo>
                  <a:pt x="0" y="459"/>
                </a:lnTo>
                <a:lnTo>
                  <a:pt x="455" y="9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054920" y="5675400"/>
            <a:ext cx="1924200" cy="304920"/>
            <a:chOff x="7054920" y="5675400"/>
            <a:chExt cx="1924200" cy="304920"/>
          </a:xfrm>
        </p:grpSpPr>
        <p:sp>
          <p:nvSpPr>
            <p:cNvPr id="155" name=""/>
            <p:cNvSpPr txBox="1"/>
            <p:nvPr/>
          </p:nvSpPr>
          <p:spPr>
            <a:xfrm>
              <a:off x="7054920" y="5675400"/>
              <a:ext cx="1924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using a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975440" y="567540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05720" y="4406760"/>
            <a:ext cx="558720" cy="165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935600"/>
            <a:ext cx="558720" cy="165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45320" y="4533840"/>
            <a:ext cx="558720" cy="165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72680" y="4432320"/>
            <a:ext cx="558720" cy="165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72680" y="4775040"/>
            <a:ext cx="558720" cy="165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97880" y="5270400"/>
            <a:ext cx="558720" cy="16524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64440" y="4495680"/>
            <a:ext cx="38088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264440" y="4641840"/>
            <a:ext cx="385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197920" y="4533840"/>
            <a:ext cx="37476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97920" y="4627440"/>
            <a:ext cx="380880" cy="23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88320" y="4997520"/>
            <a:ext cx="140040" cy="82800"/>
          </a:xfrm>
          <a:custGeom>
            <a:avLst/>
            <a:gdLst/>
            <a:ahLst/>
            <a:rect l="0" t="0" r="r" b="b"/>
            <a:pathLst>
              <a:path w="389" h="230">
                <a:moveTo>
                  <a:pt x="0" y="230"/>
                </a:moveTo>
                <a:lnTo>
                  <a:pt x="389" y="230"/>
                </a:lnTo>
                <a:lnTo>
                  <a:pt x="195" y="0"/>
                </a:lnTo>
                <a:lnTo>
                  <a:pt x="0" y="23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70880" y="5270400"/>
            <a:ext cx="558720" cy="16524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0240" y="46944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73920" y="4959360"/>
            <a:ext cx="140040" cy="82800"/>
          </a:xfrm>
          <a:custGeom>
            <a:avLst/>
            <a:gdLst/>
            <a:ahLst/>
            <a:rect l="0" t="0" r="r" b="b"/>
            <a:pathLst>
              <a:path w="389" h="230">
                <a:moveTo>
                  <a:pt x="0" y="230"/>
                </a:moveTo>
                <a:lnTo>
                  <a:pt x="389" y="230"/>
                </a:lnTo>
                <a:lnTo>
                  <a:pt x="195" y="0"/>
                </a:lnTo>
                <a:lnTo>
                  <a:pt x="0" y="23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03200" y="255600"/>
            <a:ext cx="94503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domain model according to some OO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key abstractions and their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C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for flexibility and extensibility with desig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ility: Strategy, State, Decorator, 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of subsystems: Abstract Factory,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e with exist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pter,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language specific id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8640" y="990720"/>
            <a:ext cx="4849920" cy="1515960"/>
            <a:chOff x="458640" y="990720"/>
            <a:chExt cx="4849920" cy="1515960"/>
          </a:xfrm>
        </p:grpSpPr>
        <p:sp>
          <p:nvSpPr>
            <p:cNvPr id="177" name=""/>
            <p:cNvSpPr/>
            <p:nvPr/>
          </p:nvSpPr>
          <p:spPr>
            <a:xfrm>
              <a:off x="458640" y="99072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04720" y="1039680"/>
              <a:ext cx="1352520" cy="942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s fig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s fig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805200" y="1050840"/>
              <a:ext cx="144936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05320" y="1004760"/>
              <a:ext cx="0" cy="149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01720" y="2770200"/>
            <a:ext cx="4849920" cy="1527120"/>
            <a:chOff x="801720" y="2770200"/>
            <a:chExt cx="4849920" cy="1527120"/>
          </a:xfrm>
        </p:grpSpPr>
        <p:sp>
          <p:nvSpPr>
            <p:cNvPr id="182" name=""/>
            <p:cNvSpPr/>
            <p:nvPr/>
          </p:nvSpPr>
          <p:spPr>
            <a:xfrm>
              <a:off x="801720" y="2781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858960" y="2819520"/>
              <a:ext cx="1838160" cy="8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s 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le input ev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60640" y="277020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51360" y="4013280"/>
            <a:ext cx="4849920" cy="151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019400" y="4076640"/>
            <a:ext cx="20048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273800" y="408636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3240" y="40147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111560" y="307008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41720" y="1422360"/>
            <a:ext cx="4849920" cy="1515960"/>
            <a:chOff x="4941720" y="1422360"/>
            <a:chExt cx="4849920" cy="1515960"/>
          </a:xfrm>
        </p:grpSpPr>
        <p:sp>
          <p:nvSpPr>
            <p:cNvPr id="191" name=""/>
            <p:cNvSpPr/>
            <p:nvPr/>
          </p:nvSpPr>
          <p:spPr>
            <a:xfrm>
              <a:off x="4941720" y="1422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960800" y="1461960"/>
              <a:ext cx="20750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 itsel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display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figure attrib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88280" y="148284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8400" y="1424160"/>
              <a:ext cx="0" cy="15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Drawing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and complex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 have an open-ended set of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Figure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ow display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figure (move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t detection (contains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 abstraction should be free of any implement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676920" y="1481040"/>
            <a:ext cx="27050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set: Us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 of framework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ion of design fro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 believe that interface design and functional factoring constitute the key intellectual content of software and that they are far more difficult to create or re-create than code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-- Peter Deut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e commitment to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meworks still have to work out of the box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ing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end on stable abst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: separate design from implementation with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 define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tractFigure provides defaul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25640" y="3110040"/>
            <a:ext cx="479736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Po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x, int y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isplayBox().inside(x,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29480" y="347976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34240" y="2862360"/>
            <a:ext cx="147492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strac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sPoi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eB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MoveB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35680" y="3228840"/>
            <a:ext cx="147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754680" y="4886280"/>
            <a:ext cx="163188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angl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MoveB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4920" y="5273640"/>
            <a:ext cx="157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567560" y="4235400"/>
            <a:ext cx="7920" cy="67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46960" y="445608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73840" y="932040"/>
            <a:ext cx="1395360" cy="1393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eB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sPoi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872400" y="1305000"/>
            <a:ext cx="1449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64320" y="2346480"/>
            <a:ext cx="14400" cy="533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46960" y="24717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Patterns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HotDraw - solving design problems with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a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do you call the class/interface that is expected to be the root of an inheritanc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Superclass Name -- Smalltalk Best Practic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a superclass with a single word that conveys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he best name for the to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name shows up in many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qualified subclas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HotDraw conven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p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implem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lifi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needs to be subcl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lifi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can be reused as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lex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 figures out of simpler fig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Fig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24160" y="2044800"/>
            <a:ext cx="1181160" cy="34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357280" y="20685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er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63520" y="27417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ex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0280" y="27417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ex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32080" y="27417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ex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1160" y="2717640"/>
            <a:ext cx="1079640" cy="34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2717640"/>
            <a:ext cx="1079640" cy="34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2717640"/>
            <a:ext cx="1079640" cy="34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728720" y="2401920"/>
            <a:ext cx="1141560" cy="315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08440" y="2389320"/>
            <a:ext cx="0" cy="328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09880" y="2401920"/>
            <a:ext cx="1128600" cy="315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14280" y="313380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57280" y="31352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89200" y="314964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lex Figur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ping Composite participants to ou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iteFigure doesn’t define any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Box is an inherited abstract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86080" y="1646280"/>
            <a:ext cx="118728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244520" y="3575160"/>
            <a:ext cx="1671480" cy="1819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it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Al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eB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81160" y="2630520"/>
            <a:ext cx="1800" cy="9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55880" y="307980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962520"/>
            <a:ext cx="16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87520" y="2044800"/>
            <a:ext cx="1166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27520" y="4417920"/>
            <a:ext cx="13017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62240" y="40971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4560" y="432432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41880" y="216072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33560" y="2158920"/>
            <a:ext cx="1408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52920" y="4422600"/>
            <a:ext cx="3776760" cy="10303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eration k = figure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k.hasMoreElements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Figure) k.nextElement()).draw(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95480" y="5016600"/>
            <a:ext cx="252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55880" y="497196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9840" y="2108160"/>
            <a:ext cx="1144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sing Composite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p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figure created by end-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Box is the union of its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T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figure created by 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Figure creates its child figures w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s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ches display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99200" y="3868560"/>
            <a:ext cx="128592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mp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11800" y="42418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0" y="2571840"/>
            <a:ext cx="16714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it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83480" y="203364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0" y="22161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110360" y="1278000"/>
            <a:ext cx="124776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mp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824960" y="3882960"/>
            <a:ext cx="12668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you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37560" y="42418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7560" y="509256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83480" y="29098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0" y="309240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21640" y="3454560"/>
            <a:ext cx="162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19840" y="345600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45600" y="346860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92480" y="4332240"/>
            <a:ext cx="3411360" cy="118116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Border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Separator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draw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91240" y="4915080"/>
            <a:ext cx="2170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487044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26200" y="1663560"/>
            <a:ext cx="123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gure State: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attributes (fill color, frame color, pen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ing an accessor for each attribute results in a bloated Figur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attributes are figure specific (font, line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doesn’t make sense to have it in all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attributes are instance specific (URL attach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y null insta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71720" indent="-21276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State Pattern -- Smalltalk Best Practic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a generic key, valu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e state in 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is looked-up by name in the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316640" y="4184640"/>
            <a:ext cx="2195640" cy="118116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Attribute(name,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tAttribute(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04040" y="4559400"/>
            <a:ext cx="2170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624800" y="1938240"/>
            <a:ext cx="20908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gur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ing Variabl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e variable state interface from dictiona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gure can implement variable state interface with instan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or 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 as you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Figure provides variable stat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s a set of attribute names: fill,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ores them in a 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easy to support new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classes have to dispatch attribut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possible to implement generic attribute chang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 duplication in AttributeFigure sub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patterns helps us to elimin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ode dupl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96040" y="5016600"/>
            <a:ext cx="3409920" cy="13939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gure.dra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setColor(getFillColo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fillMyFig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setColor(getFrameColo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frameMyFig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ying Templat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760920" y="3753000"/>
            <a:ext cx="543888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Backgroun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, Color 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fillPolygon(fPo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4600" y="1469880"/>
            <a:ext cx="3465360" cy="16102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setColor(getFillColo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Background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setColor(getFrameColo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Frame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767040" y="4854600"/>
            <a:ext cx="394488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Fra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.drawPolygon(fPo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06640" y="1593720"/>
            <a:ext cx="166212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tribut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Back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Fr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108080" y="1955880"/>
            <a:ext cx="166068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52360" y="3476520"/>
            <a:ext cx="166212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yg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Backgroun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Fr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84400" y="3857760"/>
            <a:ext cx="153324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28880" y="2787480"/>
            <a:ext cx="7920" cy="67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08280" y="30081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622760" y="1854360"/>
            <a:ext cx="12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94040" y="2057400"/>
            <a:ext cx="1968480" cy="1144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4064040"/>
            <a:ext cx="1003320" cy="1015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292640"/>
            <a:ext cx="1346400" cy="965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ensible Figur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ng behavior to existing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adding a Border around a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: no change to existing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invasive extension from the figure’s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State Patt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, it can only attach and retriev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ble state cannot augment exis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wing a border requires ext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gure.draw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gure.displayBo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candid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772320" y="1270080"/>
            <a:ext cx="27068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ensible Figure Behavior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16000" y="1601640"/>
            <a:ext cx="7524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35120" y="2541600"/>
            <a:ext cx="159228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rator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r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sPoi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609560" y="5172120"/>
            <a:ext cx="163188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derDeco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playBox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74920" y="194472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1337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25680" y="4167360"/>
            <a:ext cx="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98600" y="45464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33680" y="5557680"/>
            <a:ext cx="159228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27400" y="2705040"/>
            <a:ext cx="1084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13000" y="2425680"/>
            <a:ext cx="1152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0560" y="1754280"/>
            <a:ext cx="11160" cy="9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770200" y="1752480"/>
            <a:ext cx="1541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46280" y="2916360"/>
            <a:ext cx="1568520" cy="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978360" y="3341520"/>
            <a:ext cx="341136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Component.draw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40080" y="3530520"/>
            <a:ext cx="1547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35053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03560" y="5348160"/>
            <a:ext cx="3411360" cy="9684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draw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Border(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76360" y="5740560"/>
            <a:ext cx="1624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98600" y="57150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ping the Decorator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ful, can filter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s object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 I refer to the Figure or the Decora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equires manual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ch methods need to be forwar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impact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ecorator only when you need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isting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aware of object identit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ing the guts vs. changing the sk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ive design based on changing the gu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s of communicating objects that are customized to solve a general desig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 to repeat a successful design done by someon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e-sized chunk of engineering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d in a literary style (various form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ticulate design decisions and their trade-of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l a successful engineering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bout design, but include coding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 a solution that isn’t ob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a vocabulary for talking abou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hanging the G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figure has a se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r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e-off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ly JHotDraw supports Decorations only for PolyLine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49760" y="2084400"/>
            <a:ext cx="170172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Decora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moveDecora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Al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088040" y="2057400"/>
            <a:ext cx="134604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mageArea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48240" y="2451240"/>
            <a:ext cx="1536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7960" y="2451240"/>
            <a:ext cx="170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1280" y="2449440"/>
            <a:ext cx="1341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467560" y="3956040"/>
            <a:ext cx="67464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607160" y="2811600"/>
            <a:ext cx="3240" cy="11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86560" y="31417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51560" y="3289320"/>
            <a:ext cx="232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454800" y="3287880"/>
            <a:ext cx="0" cy="66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8772480" y="3301920"/>
            <a:ext cx="3240" cy="66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157880" y="3956040"/>
            <a:ext cx="89064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29280" y="3956040"/>
            <a:ext cx="79200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72120" y="2413080"/>
            <a:ext cx="63360" cy="6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52440" y="3538440"/>
            <a:ext cx="3230640" cy="8478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Al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 g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Decorator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895480" y="3124080"/>
            <a:ext cx="939960" cy="39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435640" y="2133720"/>
            <a:ext cx="102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o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awing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View is a canvas to render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WT/JFC provide a canvas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want to decouple JHotDraw from a specific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framework based on an ideal canva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can we reuse the existing AWT/JFC canvas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ying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its to a concrete Adapte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s only on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adapter can work with many adap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ying Adapter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a class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get interface is defined as a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isting canvas implementation is reused by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60640" y="2290680"/>
            <a:ext cx="1662120" cy="118116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Backgroun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Foregroun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692760" y="3141720"/>
            <a:ext cx="684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60640" y="2652840"/>
            <a:ext cx="166392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6480" y="3465360"/>
            <a:ext cx="0" cy="662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39909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853160" y="4508640"/>
            <a:ext cx="208584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Presse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Release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51360" y="4876920"/>
            <a:ext cx="2082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38760" y="414036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1640" y="41403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32600" y="3465360"/>
            <a:ext cx="0" cy="66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00840" y="39909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3000" y="414036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0040" y="414036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601640" y="2711520"/>
            <a:ext cx="1158840" cy="330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55800" y="28828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33640" y="4856040"/>
            <a:ext cx="85572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08880" y="3130560"/>
            <a:ext cx="88596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ap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o maintains and renders th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f we want to support DrawingViews without 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only drawing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ng selection management as an additional responsibility to Drawing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 contains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drawing a CompositeFig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gure It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 want many different ways to access the figures in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don’t want to make the list “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Enumeration Method -- Smalltalk Best Practic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a method that returns an enumeration to access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Enumeration extends Enumeration with nextFigur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es casts in clien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 returns different FigureEnum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: back to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Reverse: front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lected tool in the palette defines how input is pa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View handles input and its behaviour depends on the curr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should be easy to define new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rawing Editors need differ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st 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 defines constants for differ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s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0680" y="955800"/>
            <a:ext cx="5773680" cy="52228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final static int SELECTION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final static int RECTANGLE 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ouseDown(MouseEvent e, int x, int y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ool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SEL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RECTANG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ouseDrag(MouseEvent e, int x, int y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ool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SEL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RECTANG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31080" y="851040"/>
            <a:ext cx="364644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 of a new to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 modification in several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obvious which state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 is maintain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which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kind of object is miss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atterns Are No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MT class diagram with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way of solving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ed designers should not be surprised by a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ssive disregard to originality” --Brian Fo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ay to reus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s are a mental building block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9720" y="1782720"/>
            <a:ext cx="158256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ategy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gorithm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Strateg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71960" y="1784520"/>
            <a:ext cx="105876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gorithm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98920" y="3268800"/>
            <a:ext cx="18208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reteStrateg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0" y="3268800"/>
            <a:ext cx="18208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reteStrategy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2000" y="2144880"/>
            <a:ext cx="155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95520" y="206856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24480" y="2550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94160" y="28623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014640"/>
            <a:ext cx="206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92360" y="30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75320" y="30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1160" y="2151000"/>
            <a:ext cx="157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76640" y="2141640"/>
            <a:ext cx="106380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30600" y="18842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ols as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ping the State participants to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317760" y="1868400"/>
            <a:ext cx="1316160" cy="1819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1866960"/>
            <a:ext cx="1316160" cy="1819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Ac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ctiv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37160" y="2590920"/>
            <a:ext cx="1915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00600" y="2333520"/>
            <a:ext cx="5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16320" y="223524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19960" y="2259000"/>
            <a:ext cx="13050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556480" y="5187960"/>
            <a:ext cx="113832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raser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78760" y="3700440"/>
            <a:ext cx="9360" cy="149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54920" y="42847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75440" y="4514760"/>
            <a:ext cx="38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273640" y="45194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9115560" y="4508640"/>
            <a:ext cx="0" cy="68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16760" y="5187960"/>
            <a:ext cx="215568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angle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98360" y="3957480"/>
            <a:ext cx="4843440" cy="10303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Dra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MouseEvent e, int x, int y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().mouseDrag(e,x,y,thi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Damag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224080" y="2679840"/>
            <a:ext cx="1154160" cy="11937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40080" y="264168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94320" y="5187960"/>
            <a:ext cx="137484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lec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View - Tool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BPP: self dele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ol states ar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d with activate/de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olButton presents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s when it is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Editor maintains curr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569440" y="6311880"/>
            <a:ext cx="936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446800" y="6229440"/>
            <a:ext cx="3022560" cy="7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24480" y="491796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0960" y="53244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68760" y="6022800"/>
            <a:ext cx="2997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14720" y="445284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10000" y="4168800"/>
            <a:ext cx="111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awing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049720" y="416880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02160" y="4452840"/>
            <a:ext cx="0" cy="2065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41960" y="416880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958160" y="4168800"/>
            <a:ext cx="116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awing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304200" y="416880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37160" y="445284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26600" y="4452840"/>
            <a:ext cx="0" cy="208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545760" y="4452840"/>
            <a:ext cx="0" cy="207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560" y="4478400"/>
            <a:ext cx="95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560" y="4897440"/>
            <a:ext cx="88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560" y="5335560"/>
            <a:ext cx="768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557680" y="5116680"/>
            <a:ext cx="870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57680" y="4707000"/>
            <a:ext cx="88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57680" y="556740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450040" y="5818320"/>
            <a:ext cx="1098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Default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715160" y="6022800"/>
            <a:ext cx="80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ct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13800" y="6078600"/>
            <a:ext cx="65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54320" y="4708440"/>
            <a:ext cx="81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54320" y="5118120"/>
            <a:ext cx="81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54320" y="5537160"/>
            <a:ext cx="81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02280" y="4630680"/>
            <a:ext cx="95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02280" y="5049720"/>
            <a:ext cx="88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02280" y="5487840"/>
            <a:ext cx="768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08600" y="4861080"/>
            <a:ext cx="133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11480" y="527040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14720" y="568944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75120" y="4686480"/>
            <a:ext cx="8568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71880" y="5111640"/>
            <a:ext cx="8568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8640" y="5537160"/>
            <a:ext cx="82440" cy="89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56080" y="4838760"/>
            <a:ext cx="8568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56080" y="5245200"/>
            <a:ext cx="8568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59320" y="5670720"/>
            <a:ext cx="73080" cy="7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43560" y="57754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74040" y="6006960"/>
            <a:ext cx="90360" cy="42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507600" y="6265800"/>
            <a:ext cx="81000" cy="1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04040" y="4910040"/>
            <a:ext cx="85680" cy="2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08720" y="5310360"/>
            <a:ext cx="85680" cy="2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8720" y="5748480"/>
            <a:ext cx="85680" cy="2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062840" y="4167360"/>
            <a:ext cx="64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78640" y="4446720"/>
            <a:ext cx="0" cy="208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35800" y="5353200"/>
            <a:ext cx="8748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581880" y="5132520"/>
            <a:ext cx="852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Ori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05560" y="536580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458640" y="990720"/>
            <a:ext cx="4849920" cy="431640"/>
            <a:chOff x="458640" y="990720"/>
            <a:chExt cx="4849920" cy="431640"/>
          </a:xfrm>
        </p:grpSpPr>
        <p:sp>
          <p:nvSpPr>
            <p:cNvPr id="446" name=""/>
            <p:cNvSpPr/>
            <p:nvPr/>
          </p:nvSpPr>
          <p:spPr>
            <a:xfrm>
              <a:off x="458640" y="990720"/>
              <a:ext cx="4849920" cy="431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503280" y="1001880"/>
              <a:ext cx="88596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5200" y="1008000"/>
              <a:ext cx="1449360" cy="87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995400"/>
              <a:ext cx="0" cy="42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941720" y="1308240"/>
            <a:ext cx="4849920" cy="527040"/>
            <a:chOff x="4941720" y="1308240"/>
            <a:chExt cx="4849920" cy="527040"/>
          </a:xfrm>
        </p:grpSpPr>
        <p:sp>
          <p:nvSpPr>
            <p:cNvPr id="451" name=""/>
            <p:cNvSpPr/>
            <p:nvPr/>
          </p:nvSpPr>
          <p:spPr>
            <a:xfrm>
              <a:off x="4941720" y="1308240"/>
              <a:ext cx="484992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4960800" y="131760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mposite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88280" y="1322280"/>
              <a:ext cx="1449360" cy="7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88400" y="130968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C Overview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02120" y="5245200"/>
            <a:ext cx="4849920" cy="355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968720" y="5310360"/>
            <a:ext cx="13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3120" y="5318280"/>
            <a:ext cx="144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74000" y="5246640"/>
            <a:ext cx="1440" cy="3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713120" y="1638360"/>
            <a:ext cx="4849920" cy="1515960"/>
            <a:chOff x="4713120" y="1638360"/>
            <a:chExt cx="4849920" cy="1515960"/>
          </a:xfrm>
        </p:grpSpPr>
        <p:sp>
          <p:nvSpPr>
            <p:cNvPr id="461" name=""/>
            <p:cNvSpPr/>
            <p:nvPr/>
          </p:nvSpPr>
          <p:spPr>
            <a:xfrm>
              <a:off x="4713120" y="1638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4732200" y="1677960"/>
              <a:ext cx="207504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 itsel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display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figure attrib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 about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e Hand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59680" y="169848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59800" y="163980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930240" y="1727280"/>
            <a:ext cx="3693960" cy="519120"/>
            <a:chOff x="930240" y="1727280"/>
            <a:chExt cx="3693960" cy="519120"/>
          </a:xfrm>
        </p:grpSpPr>
        <p:sp>
          <p:nvSpPr>
            <p:cNvPr id="466" name=""/>
            <p:cNvSpPr/>
            <p:nvPr/>
          </p:nvSpPr>
          <p:spPr>
            <a:xfrm>
              <a:off x="930240" y="1727280"/>
              <a:ext cx="369396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998640" y="1728720"/>
              <a:ext cx="12510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rack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65520" y="1736640"/>
              <a:ext cx="93024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645000" y="1731960"/>
              <a:ext cx="1440" cy="36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0120" y="1979640"/>
            <a:ext cx="3693960" cy="519120"/>
            <a:chOff x="600120" y="1979640"/>
            <a:chExt cx="3693960" cy="519120"/>
          </a:xfrm>
        </p:grpSpPr>
        <p:sp>
          <p:nvSpPr>
            <p:cNvPr id="471" name=""/>
            <p:cNvSpPr/>
            <p:nvPr/>
          </p:nvSpPr>
          <p:spPr>
            <a:xfrm>
              <a:off x="600120" y="1981080"/>
              <a:ext cx="3693960" cy="317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666720" y="1981080"/>
              <a:ext cx="7761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3335400" y="1979640"/>
              <a:ext cx="930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314880" y="1986120"/>
              <a:ext cx="1440" cy="30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 txBox="1"/>
          <p:nvPr/>
        </p:nvSpPr>
        <p:spPr>
          <a:xfrm>
            <a:off x="7693200" y="338760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79280" y="3595680"/>
            <a:ext cx="4849920" cy="1527120"/>
            <a:chOff x="179280" y="3595680"/>
            <a:chExt cx="4849920" cy="1527120"/>
          </a:xfrm>
        </p:grpSpPr>
        <p:sp>
          <p:nvSpPr>
            <p:cNvPr id="477" name=""/>
            <p:cNvSpPr/>
            <p:nvPr/>
          </p:nvSpPr>
          <p:spPr>
            <a:xfrm>
              <a:off x="179280" y="360684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236520" y="3643200"/>
              <a:ext cx="3073320" cy="12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s 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resh damage area at user sp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orward input events to selected </a:t>
              </a:r>
              <a:br>
                <a:rPr sz="1400"/>
              </a:b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T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38560" y="359568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3489480" y="3895560"/>
            <a:ext cx="14493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586400" y="3289320"/>
            <a:ext cx="4849920" cy="1515960"/>
            <a:chOff x="4586400" y="3289320"/>
            <a:chExt cx="4849920" cy="1515960"/>
          </a:xfrm>
        </p:grpSpPr>
        <p:sp>
          <p:nvSpPr>
            <p:cNvPr id="482" name=""/>
            <p:cNvSpPr/>
            <p:nvPr/>
          </p:nvSpPr>
          <p:spPr>
            <a:xfrm>
              <a:off x="4586400" y="328932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4603680" y="3330720"/>
              <a:ext cx="1174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T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se 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2600" y="334980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32720" y="329076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95360" y="5702400"/>
            <a:ext cx="4849920" cy="355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61960" y="576756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date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16360" y="5775480"/>
            <a:ext cx="144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67240" y="5703840"/>
            <a:ext cx="1440" cy="3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816680" y="1724040"/>
            <a:ext cx="17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lection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figures by cl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figures with a rubber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ke the figure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g a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tains a list of selected shapes and caches th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ws the selection in a layer on top of the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, lots of conditional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rubberband support required lots of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333600" y="324000"/>
            <a:ext cx="349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lectionTool 1s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3360" y="1003320"/>
            <a:ext cx="8852040" cy="50101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ionToo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tends Tool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    fAnchorX, fAnchorY;  // initial mouse 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    fLastX, fLastY;      // previous mouse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Handle  fAnchorHan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igure  fAnchorFigu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Dra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ouseEvent e, int x, int y, DrawingView vi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AnchorHandle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nchorHandle.invokeStep(x - fAnchorX, y - fAnchorY, view.drawing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AnchorFigure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selectedFigures = view.se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selectedFigures.size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gure figure = (Figure) selectedFigures.elementAt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gure.moveBy(x - fLastX, y - fLast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stX =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stY =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lectionTool Improv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06440" y="952560"/>
            <a:ext cx="944388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electionTool is in differ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bberb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oking 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gging 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a compo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ing Stat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seDown determines the current inter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68640" y="3773520"/>
            <a:ext cx="137484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lec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267600" y="3771720"/>
            <a:ext cx="141444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46720" y="4495680"/>
            <a:ext cx="1858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52920" y="423864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68640" y="41403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72280" y="4164120"/>
            <a:ext cx="1411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38600" y="6091200"/>
            <a:ext cx="144468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ndle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877160" y="6091200"/>
            <a:ext cx="17715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lectArea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58160" y="495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51735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57880" y="5418000"/>
            <a:ext cx="340668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356080" y="54212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8764560" y="5423040"/>
            <a:ext cx="1440" cy="66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440400" y="6093000"/>
            <a:ext cx="125748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g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04200" y="2813040"/>
            <a:ext cx="61920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59280" y="5264280"/>
            <a:ext cx="128124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ate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724800" y="2793960"/>
            <a:ext cx="5842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20000" y="3129120"/>
            <a:ext cx="3240" cy="64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96160" y="33447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ols to Create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CreationTools are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only differ by the Figure they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 the creation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y Metho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stract class CreationTool with a Factory Method create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each new Figure a new CreationTool subclass has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 the amount of subcl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892840" y="3238560"/>
            <a:ext cx="132552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Figu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97520" y="3630600"/>
            <a:ext cx="13050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693960" y="5773680"/>
            <a:ext cx="16714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Figu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758000" y="5772240"/>
            <a:ext cx="187956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lipse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Figu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8120" y="4640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421320" y="488160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4440" y="5099040"/>
            <a:ext cx="3843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653000" y="510372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8494560" y="5105520"/>
            <a:ext cx="0" cy="66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508720" y="5772240"/>
            <a:ext cx="2155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angle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Figu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13040" y="6119640"/>
            <a:ext cx="1646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29240" y="6119640"/>
            <a:ext cx="2141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77080" y="6119640"/>
            <a:ext cx="18496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type enables to parameterize an object with the object to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 have to implement robust cl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llow and deep clone disti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ep clone objects that are owned by the 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tractFigure provides generic defaul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ialize figure into a memory stream and resurrect the c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eationTool with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896000" y="2440080"/>
            <a:ext cx="132552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ow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Dra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Figu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903920" y="280656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41800" y="3049560"/>
            <a:ext cx="798480" cy="379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15080" y="3003480"/>
            <a:ext cx="69840" cy="69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85680" y="3438360"/>
            <a:ext cx="3505320" cy="3301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eFigure = (Figure) fPrototype.clo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62560" y="3162240"/>
            <a:ext cx="1611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03880" y="307332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854840" y="2835360"/>
            <a:ext cx="75240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n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875720" y="314964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232680" y="2782800"/>
            <a:ext cx="99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694640" y="1887480"/>
            <a:ext cx="105876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ne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8231040" y="2239920"/>
            <a:ext cx="3240" cy="5778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97840" y="24811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Cloning Idi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 provides protected clone()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neable interface tags classes that support clon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as class tags idi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s shallow c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ws an exception if the object doesn't implement the Cloneabl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” Cloneable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ide Object.clon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 access from protected to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 Object.clone() to implement shallow c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epen shallow c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ex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n't implement text editing from 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, existing text components are not figur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gure adapts TextWidget to Fig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846520" y="4095720"/>
            <a:ext cx="911160" cy="330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851360" y="4095720"/>
            <a:ext cx="7524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7251840" y="5380200"/>
            <a:ext cx="9907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643280" y="5151600"/>
            <a:ext cx="111924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59120" y="4267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05240" y="4438800"/>
            <a:ext cx="5040" cy="688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9960" y="47498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51640" y="553716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60920" y="5530680"/>
            <a:ext cx="9777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734080" y="525132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748040" y="5999040"/>
            <a:ext cx="85572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369200" y="5848200"/>
            <a:ext cx="88596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ap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959520" y="4336920"/>
            <a:ext cx="15620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732800" y="4680000"/>
            <a:ext cx="468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07160" y="49910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162920" y="3309840"/>
            <a:ext cx="11970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758000" y="3651120"/>
            <a:ext cx="504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32720" y="39625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411280" y="345960"/>
            <a:ext cx="331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&amp; Design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are implementation languag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offers good support for implementing desig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API has a hig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 den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gn was influenced by desig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parts of the API design can be covered with desig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ext (cont'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, TextFields are heavy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 don’t need text editing functionality when they aren’t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elds can’t be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better so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gure only displays static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Tool positions a floating TextField on top of a TextFigure when it is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616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Field is a temporary child component of Drawin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Tool manages the floating Text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Tool is a CreationTool that can also edit existing Text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67080" y="4554360"/>
            <a:ext cx="1306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035840" y="5824440"/>
            <a:ext cx="16812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oatingText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425840" y="5800680"/>
            <a:ext cx="9507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915080" y="4896000"/>
            <a:ext cx="2880" cy="90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52070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72280" y="5981760"/>
            <a:ext cx="1650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581120" y="5380200"/>
            <a:ext cx="1138320" cy="9684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H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Tex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tTex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692440" y="598176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74640" y="575316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235320" y="570240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iv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set: Designing for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: if something is going to change, make it an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Fact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milies of produc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of object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p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ra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 o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-depende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ction to a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s to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cree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mized re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nimize redisplay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lect/batch several changes to reduce the number of re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o redisplay damaged ar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to communicat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rve Z-ordering among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dating multiple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ptimized Re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91040" y="4813200"/>
            <a:ext cx="1536840" cy="9777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13280" y="1879560"/>
            <a:ext cx="1092240" cy="647640"/>
          </a:xfrm>
          <a:prstGeom prst="rect">
            <a:avLst/>
          </a:prstGeom>
          <a:solidFill>
            <a:srgbClr val="7b00e4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597720" y="1892160"/>
            <a:ext cx="1438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igure.moveB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938840" y="2705040"/>
            <a:ext cx="1092240" cy="6476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597720" y="2833560"/>
            <a:ext cx="1685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inform </a:t>
            </a:r>
            <a:r>
              <a:rPr b="1" i="1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wil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64040" y="3683160"/>
            <a:ext cx="1092240" cy="6476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19720" y="3962520"/>
            <a:ext cx="1092240" cy="647640"/>
          </a:xfrm>
          <a:prstGeom prst="rect">
            <a:avLst/>
          </a:prstGeom>
          <a:solidFill>
            <a:srgbClr val="7b00e4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27760" y="4851360"/>
            <a:ext cx="1092240" cy="6476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244680" y="5311800"/>
            <a:ext cx="1351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amaged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ollec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08640" y="5130720"/>
            <a:ext cx="1092240" cy="64764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597720" y="3936960"/>
            <a:ext cx="23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hange figure’s display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624560" y="5664240"/>
            <a:ext cx="39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597720" y="5121360"/>
            <a:ext cx="145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inform </a:t>
            </a:r>
            <a:r>
              <a:rPr b="1" i="1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mag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 invali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) Drawing maintains the union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alidat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Figures announce when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47920" indent="-160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about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47920" indent="-160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n the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isplay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unicat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genges: figures can’t update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-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can they communicate that they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ist: figures can be n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 candiates to sender (figure) receiver decou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ying Chain of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06440" y="952560"/>
            <a:ext cx="944388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s know a container to propagate damag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agating an invalidation request requires a comm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 and Figure are not related by a common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Container defines interface to propagate a request a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that contain figures implement Figure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wing, CompositeFigure, Decorator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41600" y="5492880"/>
            <a:ext cx="1192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ex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40160" y="5448240"/>
            <a:ext cx="1104840" cy="635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567160" y="443880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ert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577960" y="4394160"/>
            <a:ext cx="1079640" cy="635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336760" y="346248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36760" y="3429000"/>
            <a:ext cx="1333440" cy="635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32320" y="5905440"/>
            <a:ext cx="2081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44920" y="4826160"/>
            <a:ext cx="210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602160" y="5638680"/>
            <a:ext cx="105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invalid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52920" y="4559400"/>
            <a:ext cx="105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invalid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54560" y="58420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41600" y="47750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3672000" y="4952880"/>
            <a:ext cx="1928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3684600" y="3873600"/>
            <a:ext cx="19670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613480" y="4967280"/>
            <a:ext cx="0" cy="92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651640" y="3887640"/>
            <a:ext cx="0" cy="92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785000" y="3511440"/>
            <a:ext cx="158256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valid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3840" y="3848040"/>
            <a:ext cx="15606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mplify Subcl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change to a figure has to invoke in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Template Method to ensure updates when display bo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 subclasses implement basicDisplay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251000" y="2347920"/>
            <a:ext cx="7143840" cy="34034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DisplayBo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origin, Point cor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MoveB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del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o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origin, Point corne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llChan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DisplayBox(origin, cor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delt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llChan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MoveBy(del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to redisplay damaged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 often results in po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often enough poor user feedback, immediate feel s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gger a refresh at “User Spe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each user input refresh the damage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 is responsible for handling input and triggers refresh after every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1720" indent="-21276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rieve the damaged area from Dra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71720" indent="-21276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l Drawing to red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’t use the AWT Component.repaint mechanism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esn’t update at user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to preserve the Z-or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 the damaged area back to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inters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pdating Multiple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6440" y="952560"/>
            <a:ext cx="94438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rawing can be shown by multiple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rawing should be decoupled from Drawing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date all views at user-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do we want to decou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 the pattern i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Language Feature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9200" y="1449360"/>
            <a:ext cx="43005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to an interface not an implemen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 patterns are about programming to a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not a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de variations, abstract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de implementation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le objec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3280" y="1562040"/>
            <a:ext cx="402732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able to define interfaces independent of the class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visibilit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a ru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ta information,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9200" y="1006560"/>
            <a:ext cx="264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3365fb"/>
                </a:solidFill>
                <a:uFillTx/>
                <a:latin typeface="Arial"/>
                <a:ea typeface="Arial"/>
              </a:rPr>
              <a:t>Design pattern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3280" y="1028880"/>
            <a:ext cx="271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3365fb"/>
                </a:solidFill>
                <a:uFillTx/>
                <a:latin typeface="Arial"/>
                <a:ea typeface="Arial"/>
              </a:rPr>
              <a:t>Java languag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pdating Multiple View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06440" y="952560"/>
            <a:ext cx="94438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Ob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maged area is passed a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gument to 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44920" y="28702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097160" y="229536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54680" y="287028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30960" y="2295360"/>
            <a:ext cx="934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27800" y="28702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713640" y="2295360"/>
            <a:ext cx="1419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rawingVie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902800" y="2870280"/>
            <a:ext cx="0" cy="288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288280" y="2295360"/>
            <a:ext cx="1419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rawingVie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454560"/>
            <a:ext cx="88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478400" y="3349800"/>
            <a:ext cx="930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alid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803920" y="4038480"/>
            <a:ext cx="889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918040" y="408924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964120" y="3844800"/>
            <a:ext cx="1260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Damag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103800" y="276696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277040" y="2959200"/>
            <a:ext cx="88920" cy="275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16520" y="3416400"/>
            <a:ext cx="889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21240" y="35686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05440" y="44830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37440" y="4483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918040" y="469908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900760" y="4238640"/>
            <a:ext cx="1352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fyObservers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31000" y="499104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964120" y="474804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d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05440" y="5410080"/>
            <a:ext cx="2946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014880" y="516744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d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852040" y="5257800"/>
            <a:ext cx="889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146640" y="3009960"/>
            <a:ext cx="36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15280" y="30099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3149640"/>
            <a:ext cx="497844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39560" y="3414600"/>
            <a:ext cx="3303720" cy="18194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Dam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Damage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hange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ifyObservers(fDam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Damage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site-Chain of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ite defines successor chain for Chai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ite defines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in of responsibility delegation up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communicates from the root to the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n of responsibility communicates from the leaves to the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er can be used for arbitrary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der-Receiver De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terna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Observer to decouple Figures from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a single interface (update()) to inform abou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n’t require an explicit back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gures are sha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interface requires manual disp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s have to be encoded and handled with conditional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in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 manual dispatching, sim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on of container is explicitly mode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pointer precludes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helps to implement self-destructing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ustomizing Updat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ered vs. direct update: we want to suppor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ere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der invalid area into a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py buffer to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n’t require to clear th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fore no visual fli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e-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ooth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rd to detect redraw bugs (too much redraw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ires less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raw bugs are easier to de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963960" y="704880"/>
            <a:ext cx="2286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pdat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30120" y="977760"/>
            <a:ext cx="94438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Strategy to encapsulate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0" y="1693800"/>
            <a:ext cx="131616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i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311880" y="1655640"/>
            <a:ext cx="152388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date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660920" y="3281400"/>
            <a:ext cx="225432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feredUpdate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ffscreen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365960" y="3282840"/>
            <a:ext cx="21067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pleUpdate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205596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37440" y="2019240"/>
            <a:ext cx="14968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6480" y="367020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6480" y="386064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48040" y="2057400"/>
            <a:ext cx="24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25720" y="1689120"/>
            <a:ext cx="13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date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72200" y="241452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45480" y="273528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84800" y="2882880"/>
            <a:ext cx="180684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181560" y="2897280"/>
            <a:ext cx="1800" cy="3776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89840" y="289728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41520" y="4545000"/>
            <a:ext cx="575784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Drawing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pdateStrategy.draw(g, 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11520" y="196704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921040" y="2462040"/>
            <a:ext cx="0" cy="1038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05120" y="29876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830240" y="3505320"/>
            <a:ext cx="20858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407880" y="4533840"/>
            <a:ext cx="4849920" cy="1515960"/>
            <a:chOff x="407880" y="4533840"/>
            <a:chExt cx="4849920" cy="1515960"/>
          </a:xfrm>
        </p:grpSpPr>
        <p:sp>
          <p:nvSpPr>
            <p:cNvPr id="694" name=""/>
            <p:cNvSpPr/>
            <p:nvPr/>
          </p:nvSpPr>
          <p:spPr>
            <a:xfrm>
              <a:off x="407880" y="453384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476280" y="4597560"/>
              <a:ext cx="22226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Update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 refresh poli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3728880" y="460692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79760" y="4535640"/>
              <a:ext cx="0" cy="15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18960" y="990720"/>
            <a:ext cx="4849920" cy="1515960"/>
            <a:chOff x="318960" y="990720"/>
            <a:chExt cx="4849920" cy="1515960"/>
          </a:xfrm>
        </p:grpSpPr>
        <p:sp>
          <p:nvSpPr>
            <p:cNvPr id="700" name=""/>
            <p:cNvSpPr/>
            <p:nvPr/>
          </p:nvSpPr>
          <p:spPr>
            <a:xfrm>
              <a:off x="318960" y="99072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365040" y="1039680"/>
              <a:ext cx="2084400" cy="1155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s fig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s fig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llects damaged a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3665520" y="1050840"/>
              <a:ext cx="144936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65640" y="1004760"/>
              <a:ext cx="0" cy="149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62040" y="2820960"/>
            <a:ext cx="4849920" cy="1527120"/>
            <a:chOff x="662040" y="2820960"/>
            <a:chExt cx="4849920" cy="1527120"/>
          </a:xfrm>
        </p:grpSpPr>
        <p:sp>
          <p:nvSpPr>
            <p:cNvPr id="705" name=""/>
            <p:cNvSpPr/>
            <p:nvPr/>
          </p:nvSpPr>
          <p:spPr>
            <a:xfrm>
              <a:off x="662040" y="283212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719280" y="2868480"/>
              <a:ext cx="307332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s 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le input ev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refresh damage area at user sp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20960" y="282096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 txBox="1"/>
          <p:nvPr/>
        </p:nvSpPr>
        <p:spPr>
          <a:xfrm>
            <a:off x="3971880" y="312120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62440" y="5245200"/>
            <a:ext cx="4849920" cy="355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829040" y="5310360"/>
            <a:ext cx="13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083440" y="5318280"/>
            <a:ext cx="144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34320" y="5246640"/>
            <a:ext cx="1440" cy="3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878360" y="1308240"/>
            <a:ext cx="4849920" cy="1515960"/>
            <a:chOff x="4878360" y="1308240"/>
            <a:chExt cx="4849920" cy="1515960"/>
          </a:xfrm>
        </p:grpSpPr>
        <p:sp>
          <p:nvSpPr>
            <p:cNvPr id="714" name=""/>
            <p:cNvSpPr/>
            <p:nvPr/>
          </p:nvSpPr>
          <p:spPr>
            <a:xfrm>
              <a:off x="4878360" y="130824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4897440" y="134784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mposite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24920" y="136836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24680" y="130968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73440" y="1638360"/>
            <a:ext cx="4849920" cy="1515960"/>
            <a:chOff x="4573440" y="1638360"/>
            <a:chExt cx="4849920" cy="1515960"/>
          </a:xfrm>
        </p:grpSpPr>
        <p:sp>
          <p:nvSpPr>
            <p:cNvPr id="719" name=""/>
            <p:cNvSpPr/>
            <p:nvPr/>
          </p:nvSpPr>
          <p:spPr>
            <a:xfrm>
              <a:off x="4573440" y="1638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4592520" y="1677960"/>
              <a:ext cx="2075040" cy="11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 itsel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display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figure attrib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form about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20000" y="169848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20120" y="163980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 txBox="1"/>
          <p:nvPr/>
        </p:nvSpPr>
        <p:spPr>
          <a:xfrm>
            <a:off x="7716960" y="1774800"/>
            <a:ext cx="17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nipulating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les support direct manipulation of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start/en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fon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 needs a common interface to manipulate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s have their own specialized interface to manipulat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tStartPoint(), setTopLef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4710240" y="2365200"/>
            <a:ext cx="2071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les are adapter to manipulate figures with a comm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handles Fig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es have a visual presentation like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, recursion test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ndles don’t have Handl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535640" y="1792440"/>
            <a:ext cx="608040" cy="48096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92760" y="2819520"/>
            <a:ext cx="1333440" cy="72396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005600" y="37814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ig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414680" y="378144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Han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58000" y="3193920"/>
            <a:ext cx="54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265400" y="2487600"/>
            <a:ext cx="129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871720" y="2325600"/>
            <a:ext cx="1509840" cy="347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025880" y="2768760"/>
            <a:ext cx="1447920" cy="825480"/>
            <a:chOff x="4025880" y="2768760"/>
            <a:chExt cx="1447920" cy="825480"/>
          </a:xfrm>
        </p:grpSpPr>
        <p:sp>
          <p:nvSpPr>
            <p:cNvPr id="739" name=""/>
            <p:cNvSpPr/>
            <p:nvPr/>
          </p:nvSpPr>
          <p:spPr>
            <a:xfrm>
              <a:off x="5384880" y="350532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38480" y="350532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25880" y="276876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72280" y="278136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444920" y="1778040"/>
            <a:ext cx="711360" cy="558720"/>
            <a:chOff x="4444920" y="1778040"/>
            <a:chExt cx="711360" cy="558720"/>
          </a:xfrm>
        </p:grpSpPr>
        <p:sp>
          <p:nvSpPr>
            <p:cNvPr id="744" name=""/>
            <p:cNvSpPr/>
            <p:nvPr/>
          </p:nvSpPr>
          <p:spPr>
            <a:xfrm>
              <a:off x="5067360" y="177804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4920" y="2247840"/>
              <a:ext cx="88920" cy="88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 flipV="1">
            <a:off x="6719760" y="1830240"/>
            <a:ext cx="608040" cy="481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859120" y="2681280"/>
            <a:ext cx="1166760" cy="13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92760" y="2114640"/>
            <a:ext cx="544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076640" y="2857680"/>
            <a:ext cx="1333440" cy="723960"/>
          </a:xfrm>
          <a:prstGeom prst="ellipse">
            <a:avLst/>
          </a:prstGeom>
          <a:noFill/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820960" y="2681280"/>
            <a:ext cx="1243080" cy="874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833560" y="1830240"/>
            <a:ext cx="2132280" cy="83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andl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 interface for Han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se down: invokeSta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se drag: invokeSte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se up: invoke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9080" y="260820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05120" y="261936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3379680" y="2408400"/>
            <a:ext cx="776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a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62680" y="260820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64080" y="2397240"/>
            <a:ext cx="1047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aLine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74880" y="288288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508040" y="2627280"/>
            <a:ext cx="110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useDrag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84520" y="295596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674800" y="2685960"/>
            <a:ext cx="10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invokeSte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1200" y="3048120"/>
            <a:ext cx="1268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692520" y="2771640"/>
            <a:ext cx="142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setEndPoin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93800" y="2819520"/>
            <a:ext cx="7920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60840" y="2967120"/>
            <a:ext cx="8100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18040" y="3043080"/>
            <a:ext cx="81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ttern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89680" y="5113440"/>
            <a:ext cx="105120" cy="311400"/>
          </a:xfrm>
          <a:custGeom>
            <a:avLst/>
            <a:gdLst/>
            <a:ahLst/>
            <a:rect l="0" t="0" r="r" b="b"/>
            <a:pathLst>
              <a:path fill="none" w="292" h="865">
                <a:moveTo>
                  <a:pt x="0" y="865"/>
                </a:moveTo>
                <a:lnTo>
                  <a:pt x="292" y="865"/>
                </a:lnTo>
                <a:lnTo>
                  <a:pt x="145" y="0"/>
                </a:lnTo>
                <a:lnTo>
                  <a:pt x="0" y="865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11640" y="5492880"/>
            <a:ext cx="101880" cy="317880"/>
          </a:xfrm>
          <a:custGeom>
            <a:avLst/>
            <a:gdLst/>
            <a:ahLst/>
            <a:rect l="0" t="0" r="r" b="b"/>
            <a:pathLst>
              <a:path fill="none" w="283" h="883">
                <a:moveTo>
                  <a:pt x="0" y="883"/>
                </a:moveTo>
                <a:lnTo>
                  <a:pt x="283" y="883"/>
                </a:lnTo>
                <a:lnTo>
                  <a:pt x="142" y="0"/>
                </a:lnTo>
                <a:lnTo>
                  <a:pt x="0" y="88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0240" y="5278320"/>
            <a:ext cx="105120" cy="311400"/>
          </a:xfrm>
          <a:custGeom>
            <a:avLst/>
            <a:gdLst/>
            <a:ahLst/>
            <a:rect l="0" t="0" r="r" b="b"/>
            <a:pathLst>
              <a:path fill="none" w="292" h="865">
                <a:moveTo>
                  <a:pt x="0" y="865"/>
                </a:moveTo>
                <a:lnTo>
                  <a:pt x="292" y="865"/>
                </a:lnTo>
                <a:lnTo>
                  <a:pt x="145" y="0"/>
                </a:lnTo>
                <a:lnTo>
                  <a:pt x="0" y="865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1680" y="5649840"/>
            <a:ext cx="105120" cy="311400"/>
          </a:xfrm>
          <a:custGeom>
            <a:avLst/>
            <a:gdLst/>
            <a:ahLst/>
            <a:rect l="0" t="0" r="r" b="b"/>
            <a:pathLst>
              <a:path fill="none" w="292" h="865">
                <a:moveTo>
                  <a:pt x="0" y="865"/>
                </a:moveTo>
                <a:lnTo>
                  <a:pt x="292" y="865"/>
                </a:lnTo>
                <a:lnTo>
                  <a:pt x="145" y="0"/>
                </a:lnTo>
                <a:lnTo>
                  <a:pt x="0" y="865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24040" y="429084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283"/>
                </a:moveTo>
                <a:lnTo>
                  <a:pt x="883" y="283"/>
                </a:lnTo>
                <a:lnTo>
                  <a:pt x="441" y="0"/>
                </a:lnTo>
                <a:lnTo>
                  <a:pt x="0" y="28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0680" y="287496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0"/>
                </a:moveTo>
                <a:lnTo>
                  <a:pt x="883" y="0"/>
                </a:lnTo>
                <a:lnTo>
                  <a:pt x="441" y="283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00680" y="244332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0"/>
                </a:moveTo>
                <a:lnTo>
                  <a:pt x="883" y="0"/>
                </a:lnTo>
                <a:lnTo>
                  <a:pt x="441" y="283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06920" y="3817800"/>
            <a:ext cx="0" cy="96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03560" y="3443400"/>
            <a:ext cx="1222200" cy="355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76880" y="5240160"/>
            <a:ext cx="1065240" cy="355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0480" y="43610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2240" y="4781520"/>
            <a:ext cx="12189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6520" y="4781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743960" y="5257800"/>
            <a:ext cx="1549440" cy="355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yout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3600" y="3521160"/>
            <a:ext cx="6652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33600" y="3759120"/>
            <a:ext cx="65592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02280" y="478152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53320" y="564372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283"/>
                </a:moveTo>
                <a:lnTo>
                  <a:pt x="883" y="283"/>
                </a:lnTo>
                <a:lnTo>
                  <a:pt x="441" y="0"/>
                </a:lnTo>
                <a:lnTo>
                  <a:pt x="0" y="28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44560" y="3457440"/>
            <a:ext cx="15825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nentP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4360" y="368136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38880" y="5435640"/>
            <a:ext cx="140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65760" y="51735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youtM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324480" y="5559480"/>
            <a:ext cx="1425600" cy="4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0320" y="534528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24040" y="384804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283"/>
                </a:moveTo>
                <a:lnTo>
                  <a:pt x="883" y="283"/>
                </a:lnTo>
                <a:lnTo>
                  <a:pt x="441" y="0"/>
                </a:lnTo>
                <a:lnTo>
                  <a:pt x="0" y="28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55760" y="5407200"/>
            <a:ext cx="7920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00680" y="330660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0"/>
                </a:moveTo>
                <a:lnTo>
                  <a:pt x="883" y="0"/>
                </a:lnTo>
                <a:lnTo>
                  <a:pt x="441" y="283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08600" y="3457440"/>
            <a:ext cx="19875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nentListe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226120" y="3544920"/>
            <a:ext cx="1357200" cy="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68920" y="3489480"/>
            <a:ext cx="127080" cy="127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7400" y="380196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283"/>
                </a:moveTo>
                <a:lnTo>
                  <a:pt x="883" y="283"/>
                </a:lnTo>
                <a:lnTo>
                  <a:pt x="441" y="0"/>
                </a:lnTo>
                <a:lnTo>
                  <a:pt x="0" y="28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35480" y="3641760"/>
            <a:ext cx="127080" cy="127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7720" y="53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56320" y="37180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391000" y="3718080"/>
            <a:ext cx="1165320" cy="4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13280" y="2963880"/>
            <a:ext cx="3713040" cy="1255680"/>
            <a:chOff x="4013280" y="2963880"/>
            <a:chExt cx="3713040" cy="1255680"/>
          </a:xfrm>
        </p:grpSpPr>
        <p:sp>
          <p:nvSpPr>
            <p:cNvPr id="108" name=""/>
            <p:cNvSpPr txBox="1"/>
            <p:nvPr/>
          </p:nvSpPr>
          <p:spPr>
            <a:xfrm>
              <a:off x="6761160" y="3914640"/>
              <a:ext cx="9651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4013280" y="2963880"/>
              <a:ext cx="21495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er: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44840" y="2540160"/>
            <a:ext cx="2718000" cy="2886120"/>
            <a:chOff x="3444840" y="2540160"/>
            <a:chExt cx="2718000" cy="2886120"/>
          </a:xfrm>
        </p:grpSpPr>
        <p:sp>
          <p:nvSpPr>
            <p:cNvPr id="111" name=""/>
            <p:cNvSpPr txBox="1"/>
            <p:nvPr/>
          </p:nvSpPr>
          <p:spPr>
            <a:xfrm>
              <a:off x="3444840" y="5121360"/>
              <a:ext cx="163980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o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013280" y="2540160"/>
              <a:ext cx="21495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osite:Compon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48080" y="5522760"/>
            <a:ext cx="5295960" cy="495720"/>
            <a:chOff x="3448080" y="5522760"/>
            <a:chExt cx="5295960" cy="495720"/>
          </a:xfrm>
        </p:grpSpPr>
        <p:sp>
          <p:nvSpPr>
            <p:cNvPr id="114" name=""/>
            <p:cNvSpPr txBox="1"/>
            <p:nvPr/>
          </p:nvSpPr>
          <p:spPr>
            <a:xfrm>
              <a:off x="3448080" y="5522760"/>
              <a:ext cx="16653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: 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848720" y="5713560"/>
              <a:ext cx="89532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54280" y="2130480"/>
            <a:ext cx="4422600" cy="2133720"/>
            <a:chOff x="1754280" y="2130480"/>
            <a:chExt cx="4422600" cy="2133720"/>
          </a:xfrm>
        </p:grpSpPr>
        <p:sp>
          <p:nvSpPr>
            <p:cNvPr id="117" name=""/>
            <p:cNvSpPr txBox="1"/>
            <p:nvPr/>
          </p:nvSpPr>
          <p:spPr>
            <a:xfrm>
              <a:off x="4013280" y="2130480"/>
              <a:ext cx="216360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idge:Abst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754280" y="3959280"/>
              <a:ext cx="23763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idge: 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90680" y="1743120"/>
            <a:ext cx="5678280" cy="3837240"/>
            <a:chOff x="490680" y="1743120"/>
            <a:chExt cx="5678280" cy="3837240"/>
          </a:xfrm>
        </p:grpSpPr>
        <p:sp>
          <p:nvSpPr>
            <p:cNvPr id="120" name=""/>
            <p:cNvSpPr txBox="1"/>
            <p:nvPr/>
          </p:nvSpPr>
          <p:spPr>
            <a:xfrm>
              <a:off x="4019400" y="1743120"/>
              <a:ext cx="21495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bstract Factory: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90680" y="4373640"/>
              <a:ext cx="3641760" cy="1206720"/>
              <a:chOff x="490680" y="4373640"/>
              <a:chExt cx="3641760" cy="1206720"/>
            </a:xfrm>
          </p:grpSpPr>
          <p:sp>
            <p:nvSpPr>
              <p:cNvPr id="122" name=""/>
              <p:cNvSpPr txBox="1"/>
              <p:nvPr/>
            </p:nvSpPr>
            <p:spPr>
              <a:xfrm>
                <a:off x="490680" y="5275440"/>
                <a:ext cx="159696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stract Facto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754280" y="4373640"/>
                <a:ext cx="2378160" cy="30492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stract Factory: Produ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"/>
          <p:cNvSpPr txBox="1"/>
          <p:nvPr/>
        </p:nvSpPr>
        <p:spPr>
          <a:xfrm>
            <a:off x="574560" y="5676840"/>
            <a:ext cx="1609560" cy="3049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ng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00680" y="2036880"/>
            <a:ext cx="317880" cy="101880"/>
          </a:xfrm>
          <a:custGeom>
            <a:avLst/>
            <a:gdLst/>
            <a:ahLst/>
            <a:rect l="0" t="0" r="r" b="b"/>
            <a:pathLst>
              <a:path fill="none" w="883" h="283">
                <a:moveTo>
                  <a:pt x="0" y="0"/>
                </a:moveTo>
                <a:lnTo>
                  <a:pt x="883" y="0"/>
                </a:lnTo>
                <a:lnTo>
                  <a:pt x="441" y="283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andl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33480" y="1190520"/>
            <a:ext cx="6931080" cy="26701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igure fOw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invokeStart(int  x, int  y, DrawingView view) {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invokeStep (int dx, int dy, DrawingView view) {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invokeEnd  (int dx, int dy, DrawingView view) {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Point loc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raw(Graphics 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6440" y="4332240"/>
            <a:ext cx="9443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 u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f dele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give Handles access to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plementing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30120" y="1079640"/>
            <a:ext cx="944388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handles can appear at the same figu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th, South, W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 a class hierarchy where all classes override just the location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to configure a Handle with regard to it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can we achieve pluggable behavi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ckHandl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645000" y="1593720"/>
            <a:ext cx="8017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403440" y="2548080"/>
            <a:ext cx="145404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216160" y="1449360"/>
            <a:ext cx="184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193212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911760" y="22525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295280" y="2535120"/>
            <a:ext cx="86184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2280" y="28828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133720" y="288288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054240" y="2793960"/>
            <a:ext cx="349560" cy="165600"/>
          </a:xfrm>
          <a:custGeom>
            <a:avLst/>
            <a:gdLst/>
            <a:ahLst/>
            <a:rect l="0" t="0" r="r" b="b"/>
            <a:pathLst>
              <a:path w="971" h="460">
                <a:moveTo>
                  <a:pt x="486" y="460"/>
                </a:moveTo>
                <a:lnTo>
                  <a:pt x="971" y="230"/>
                </a:lnTo>
                <a:lnTo>
                  <a:pt x="486" y="0"/>
                </a:lnTo>
                <a:lnTo>
                  <a:pt x="0" y="230"/>
                </a:lnTo>
                <a:lnTo>
                  <a:pt x="486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405240" y="288288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289480" y="2754360"/>
            <a:ext cx="3836880" cy="7556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o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Locator.locate(ow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4268880" y="3124080"/>
            <a:ext cx="1027080" cy="18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203720" y="311148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700360" y="25639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57200" y="4064040"/>
            <a:ext cx="94438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self del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nonymous inner classes for loca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 we want to reuse them in different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iding Handl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little handl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oids API pollution with many little implementation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clients need to create the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es often occur at the same strategic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creational patt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creasing a System’s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s with complex interfaces that hide few of their internals are hard to understand and evol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fore: design subsystems with low surface to volum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 external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capsulate large volume of internal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 can’t introduce implementation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s for hiding implementation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ing interfaces not implementati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y Metho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ides concrete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stract Factor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iding families of implementation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ing subsystem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a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define higher level interface for a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ing implementation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dg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ield clients from implementation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oxHandle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xHandleK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generated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Handles for common semant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, S, W,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s Handle as inn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035080" y="3060720"/>
            <a:ext cx="4478400" cy="182880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c public Hand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thEa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gure owner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urn new LocatorHandle (owne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void invokeStep 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/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o Nothing”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handles don’t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: avoid special code for do nothing han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: Null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69720" y="952560"/>
            <a:ext cx="4849920" cy="431640"/>
            <a:chOff x="369720" y="952560"/>
            <a:chExt cx="4849920" cy="431640"/>
          </a:xfrm>
        </p:grpSpPr>
        <p:sp>
          <p:nvSpPr>
            <p:cNvPr id="799" name=""/>
            <p:cNvSpPr/>
            <p:nvPr/>
          </p:nvSpPr>
          <p:spPr>
            <a:xfrm>
              <a:off x="369720" y="952560"/>
              <a:ext cx="4849920" cy="431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14360" y="963720"/>
              <a:ext cx="88596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16280" y="969840"/>
              <a:ext cx="1449360" cy="87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6400" y="957240"/>
              <a:ext cx="0" cy="42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916520" y="1308240"/>
            <a:ext cx="4849920" cy="527040"/>
            <a:chOff x="4916520" y="1308240"/>
            <a:chExt cx="4849920" cy="527040"/>
          </a:xfrm>
        </p:grpSpPr>
        <p:sp>
          <p:nvSpPr>
            <p:cNvPr id="804" name=""/>
            <p:cNvSpPr/>
            <p:nvPr/>
          </p:nvSpPr>
          <p:spPr>
            <a:xfrm>
              <a:off x="4916520" y="1308240"/>
              <a:ext cx="4849920" cy="3430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935600" y="131760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mposite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263080" y="1322280"/>
              <a:ext cx="1449360" cy="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62840" y="1309680"/>
              <a:ext cx="0" cy="33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04840" y="5257800"/>
            <a:ext cx="4849920" cy="533520"/>
            <a:chOff x="204840" y="5257800"/>
            <a:chExt cx="4849920" cy="533520"/>
          </a:xfrm>
        </p:grpSpPr>
        <p:sp>
          <p:nvSpPr>
            <p:cNvPr id="809" name=""/>
            <p:cNvSpPr/>
            <p:nvPr/>
          </p:nvSpPr>
          <p:spPr>
            <a:xfrm>
              <a:off x="204840" y="5257800"/>
              <a:ext cx="4849920" cy="380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271440" y="5273640"/>
              <a:ext cx="1498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date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25840" y="5276880"/>
              <a:ext cx="1449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76720" y="5259240"/>
              <a:ext cx="0" cy="37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C Overview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34960" y="3710160"/>
            <a:ext cx="4849920" cy="531720"/>
            <a:chOff x="534960" y="3710160"/>
            <a:chExt cx="4849920" cy="531720"/>
          </a:xfrm>
        </p:grpSpPr>
        <p:sp>
          <p:nvSpPr>
            <p:cNvPr id="815" name=""/>
            <p:cNvSpPr/>
            <p:nvPr/>
          </p:nvSpPr>
          <p:spPr>
            <a:xfrm>
              <a:off x="534960" y="3711600"/>
              <a:ext cx="4849920" cy="453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592200" y="3724200"/>
              <a:ext cx="12906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ing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94240" y="3710160"/>
              <a:ext cx="0" cy="45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902120" y="5245200"/>
            <a:ext cx="4849920" cy="355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968720" y="5310360"/>
            <a:ext cx="13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223120" y="5318280"/>
            <a:ext cx="144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974000" y="5246640"/>
            <a:ext cx="1440" cy="3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713120" y="1638360"/>
            <a:ext cx="4849920" cy="1515960"/>
            <a:chOff x="4713120" y="1638360"/>
            <a:chExt cx="4849920" cy="1515960"/>
          </a:xfrm>
        </p:grpSpPr>
        <p:sp>
          <p:nvSpPr>
            <p:cNvPr id="823" name=""/>
            <p:cNvSpPr/>
            <p:nvPr/>
          </p:nvSpPr>
          <p:spPr>
            <a:xfrm>
              <a:off x="4713120" y="1638360"/>
              <a:ext cx="4849920" cy="1515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4732200" y="1677960"/>
              <a:ext cx="207504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w itsel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display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s figure attrib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 about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reate Hand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059680" y="1698480"/>
              <a:ext cx="14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59800" y="163980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930240" y="1727280"/>
            <a:ext cx="3693960" cy="1320840"/>
            <a:chOff x="930240" y="1727280"/>
            <a:chExt cx="3693960" cy="1320840"/>
          </a:xfrm>
        </p:grpSpPr>
        <p:sp>
          <p:nvSpPr>
            <p:cNvPr id="828" name=""/>
            <p:cNvSpPr/>
            <p:nvPr/>
          </p:nvSpPr>
          <p:spPr>
            <a:xfrm>
              <a:off x="930240" y="1727280"/>
              <a:ext cx="3693960" cy="1320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998640" y="1727280"/>
              <a:ext cx="2390760" cy="12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474747"/>
                  </a:solidFill>
                  <a:uFillTx/>
                  <a:latin typeface="Arial"/>
                  <a:ea typeface="Arial"/>
                </a:rPr>
                <a:t>Track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knows ow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ransforms interaction into </a:t>
              </a:r>
              <a:br>
                <a:rPr sz="1400"/>
              </a:b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  changes of the 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knows location on 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65520" y="1762200"/>
              <a:ext cx="930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645000" y="174132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600120" y="2031840"/>
            <a:ext cx="3693960" cy="1320840"/>
            <a:chOff x="600120" y="2031840"/>
            <a:chExt cx="3693960" cy="1320840"/>
          </a:xfrm>
        </p:grpSpPr>
        <p:sp>
          <p:nvSpPr>
            <p:cNvPr id="833" name=""/>
            <p:cNvSpPr/>
            <p:nvPr/>
          </p:nvSpPr>
          <p:spPr>
            <a:xfrm>
              <a:off x="600120" y="2031840"/>
              <a:ext cx="3693960" cy="1320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668160" y="2031840"/>
              <a:ext cx="2390760" cy="12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474747"/>
                  </a:solidFill>
                  <a:uFillTx/>
                  <a:latin typeface="Arial"/>
                  <a:ea typeface="Arial"/>
                </a:rPr>
                <a:t>Hand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knows ow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ransforms interaction into </a:t>
              </a:r>
              <a:br>
                <a:rPr sz="1400"/>
              </a:b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  changes of the 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knows location on 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3335400" y="2066760"/>
              <a:ext cx="930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314880" y="204624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ck moving and deleted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onnection poi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ortest dis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mantic locations (e.g. N, S, W,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s, poly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b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g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support should be independent of concrete Figur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different connec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 to track changing fig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938920" y="1865160"/>
            <a:ext cx="32688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va and Smalltalk Best Practice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PP covers the daily tactics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ing du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al of condition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ing complex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iminating structur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of the coding tactics are applicable to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ing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ng clearly through you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logic into method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n’t implementation language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c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216000" y="800280"/>
            <a:ext cx="9443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nnection depends on its source and target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.changed() notifies its 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dependence is achieved with the ConnectionFigur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98680" y="2057400"/>
            <a:ext cx="736560" cy="469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889520" y="2019240"/>
            <a:ext cx="1015920" cy="533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36680" y="2273400"/>
            <a:ext cx="26402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506600" y="2540160"/>
            <a:ext cx="6872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5062680" y="2565360"/>
            <a:ext cx="687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927520" y="226044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i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351320" y="4475160"/>
            <a:ext cx="99072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054760" y="52340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915080" y="53211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370400" y="485136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005280" y="4476600"/>
            <a:ext cx="75240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378240" y="481500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51160" y="515628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611440" y="5759280"/>
            <a:ext cx="173052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i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786120" y="556272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84680" y="5564160"/>
            <a:ext cx="0" cy="189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nection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792000" y="1120680"/>
            <a:ext cx="7526160" cy="23176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onFig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xtends Figure, Observ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connectStart(Figure figur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connectEnd(Figure figur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isconnect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isconnectEn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Figure star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Figure en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canConnect(Figure start, Figure en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698400" y="4686480"/>
            <a:ext cx="1624320" cy="635040"/>
            <a:chOff x="698400" y="4686480"/>
            <a:chExt cx="1624320" cy="635040"/>
          </a:xfrm>
        </p:grpSpPr>
        <p:sp>
          <p:nvSpPr>
            <p:cNvPr id="863" name=""/>
            <p:cNvSpPr/>
            <p:nvPr/>
          </p:nvSpPr>
          <p:spPr>
            <a:xfrm>
              <a:off x="698400" y="4686480"/>
              <a:ext cx="1536840" cy="635040"/>
            </a:xfrm>
            <a:prstGeom prst="round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703440" y="4735440"/>
              <a:ext cx="1619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tart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807240" y="4699080"/>
            <a:ext cx="1397160" cy="635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10480" y="4735440"/>
            <a:ext cx="141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End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3619440" y="4699080"/>
            <a:ext cx="1473120" cy="635040"/>
            <a:chOff x="3619440" y="4699080"/>
            <a:chExt cx="1473120" cy="635040"/>
          </a:xfrm>
        </p:grpSpPr>
        <p:sp>
          <p:nvSpPr>
            <p:cNvPr id="868" name=""/>
            <p:cNvSpPr/>
            <p:nvPr/>
          </p:nvSpPr>
          <p:spPr>
            <a:xfrm>
              <a:off x="3619440" y="4699080"/>
              <a:ext cx="1378080" cy="635040"/>
            </a:xfrm>
            <a:prstGeom prst="round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3622680" y="4748040"/>
              <a:ext cx="14698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onne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 flipH="1">
            <a:off x="2236680" y="4952880"/>
            <a:ext cx="1382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5005440" y="4940280"/>
            <a:ext cx="18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5010120" y="466416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952720" y="47149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36680" y="5181480"/>
            <a:ext cx="1370160" cy="0"/>
          </a:xfrm>
          <a:prstGeom prst="line">
            <a:avLst/>
          </a:prstGeom>
          <a:ln w="12600">
            <a:solidFill>
              <a:srgbClr val="ddddd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005440" y="5168880"/>
            <a:ext cx="1814400" cy="0"/>
          </a:xfrm>
          <a:prstGeom prst="line">
            <a:avLst/>
          </a:prstGeom>
          <a:ln w="12600">
            <a:solidFill>
              <a:srgbClr val="ddddd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899320" y="520848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2279520" y="523404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932520" y="41162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976320" y="41162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846600" y="411624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rphaned Conn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oid orphan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more detailed upd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e whether Figure was changed or 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s an addition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 as an argument to up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 encapsulates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ure.release() sends out an event that it wa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Figure self destructs when it receives a deleted figur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can we ensure unique Ev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special Event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dFigure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letedFigure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452840" y="4799160"/>
            <a:ext cx="5118120" cy="16066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Observable o, Object arg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g instanceof DeletedFigureEvent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ontainer()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().removeFromDrawing(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Conn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lexibl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ing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Tool, Connection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for different connection figure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the ConnectionFig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bow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Prototype to parameterize the ConnectionTool/Handle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nnection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plement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work is based on ConnectionFigur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existing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yLine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can we reuse existing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971960" y="3863880"/>
            <a:ext cx="173052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i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676840" y="419256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537160" y="45086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386160" y="3867120"/>
            <a:ext cx="14940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yLine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267080" y="420516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40360" y="45464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525840" y="5149800"/>
            <a:ext cx="15526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4408560" y="49528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406760" y="4954680"/>
            <a:ext cx="0" cy="189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inding Connectio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cy depends on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ing methods to Figure bloats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ConnectionFigures from concrete connection poi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patterns work together to solve the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n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88840" y="1701720"/>
            <a:ext cx="1624320" cy="635040"/>
            <a:chOff x="888840" y="1701720"/>
            <a:chExt cx="1624320" cy="635040"/>
          </a:xfrm>
        </p:grpSpPr>
        <p:sp>
          <p:nvSpPr>
            <p:cNvPr id="901" name=""/>
            <p:cNvSpPr/>
            <p:nvPr/>
          </p:nvSpPr>
          <p:spPr>
            <a:xfrm>
              <a:off x="888840" y="1701720"/>
              <a:ext cx="1536840" cy="635040"/>
            </a:xfrm>
            <a:prstGeom prst="round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893880" y="1751040"/>
              <a:ext cx="1619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tart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7035840" y="1727280"/>
            <a:ext cx="1397160" cy="635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039080" y="1763640"/>
            <a:ext cx="141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End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3848040" y="1727280"/>
            <a:ext cx="1473120" cy="635040"/>
            <a:chOff x="3848040" y="1727280"/>
            <a:chExt cx="1473120" cy="635040"/>
          </a:xfrm>
        </p:grpSpPr>
        <p:sp>
          <p:nvSpPr>
            <p:cNvPr id="906" name=""/>
            <p:cNvSpPr/>
            <p:nvPr/>
          </p:nvSpPr>
          <p:spPr>
            <a:xfrm>
              <a:off x="3848040" y="1727280"/>
              <a:ext cx="1378080" cy="635040"/>
            </a:xfrm>
            <a:prstGeom prst="round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3851280" y="1776240"/>
              <a:ext cx="14698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onne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g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>
            <a:off x="2793960" y="19810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234040" y="1968480"/>
            <a:ext cx="14587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238720" y="169236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181320" y="17431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25680" y="2209680"/>
            <a:ext cx="1409760" cy="0"/>
          </a:xfrm>
          <a:prstGeom prst="line">
            <a:avLst/>
          </a:prstGeom>
          <a:ln w="12600">
            <a:solidFill>
              <a:srgbClr val="ddddd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34040" y="2197080"/>
            <a:ext cx="1814400" cy="0"/>
          </a:xfrm>
          <a:prstGeom prst="line">
            <a:avLst/>
          </a:prstGeom>
          <a:ln w="12600">
            <a:solidFill>
              <a:srgbClr val="ddddd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127920" y="223668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2508120" y="226224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161120" y="11444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204920" y="1144440"/>
            <a:ext cx="82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075200" y="114444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451240" y="1803240"/>
            <a:ext cx="343080" cy="33012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92760" y="1803240"/>
            <a:ext cx="343080" cy="33012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093760" y="78912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6323040" y="80172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27200" y="1079640"/>
            <a:ext cx="228960" cy="660600"/>
          </a:xfrm>
          <a:custGeom>
            <a:avLst/>
            <a:gdLst/>
            <a:ahLst/>
            <a:rect l="0" t="0" r="r" b="b"/>
            <a:pathLst>
              <a:path w="636" h="1835">
                <a:moveTo>
                  <a:pt x="0" y="610"/>
                </a:moveTo>
                <a:lnTo>
                  <a:pt x="0" y="1222"/>
                </a:lnTo>
                <a:lnTo>
                  <a:pt x="445" y="1222"/>
                </a:lnTo>
                <a:lnTo>
                  <a:pt x="445" y="1835"/>
                </a:lnTo>
                <a:lnTo>
                  <a:pt x="636" y="918"/>
                </a:lnTo>
                <a:lnTo>
                  <a:pt x="445" y="0"/>
                </a:lnTo>
                <a:lnTo>
                  <a:pt x="445" y="610"/>
                </a:lnTo>
                <a:lnTo>
                  <a:pt x="0" y="61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730920" y="1079640"/>
            <a:ext cx="228960" cy="660600"/>
          </a:xfrm>
          <a:custGeom>
            <a:avLst/>
            <a:gdLst/>
            <a:ahLst/>
            <a:rect l="0" t="0" r="r" b="b"/>
            <a:pathLst>
              <a:path w="636" h="1835">
                <a:moveTo>
                  <a:pt x="0" y="610"/>
                </a:moveTo>
                <a:lnTo>
                  <a:pt x="0" y="1222"/>
                </a:lnTo>
                <a:lnTo>
                  <a:pt x="445" y="1222"/>
                </a:lnTo>
                <a:lnTo>
                  <a:pt x="445" y="1835"/>
                </a:lnTo>
                <a:lnTo>
                  <a:pt x="636" y="918"/>
                </a:lnTo>
                <a:lnTo>
                  <a:pt x="445" y="0"/>
                </a:lnTo>
                <a:lnTo>
                  <a:pt x="445" y="610"/>
                </a:lnTo>
                <a:lnTo>
                  <a:pt x="0" y="61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213520" y="39877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5348160" y="2800440"/>
            <a:ext cx="109872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dPoin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1963800" y="3116160"/>
            <a:ext cx="173052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i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962520" y="3967200"/>
            <a:ext cx="4371840" cy="11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01880" y="3287880"/>
            <a:ext cx="165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701880" y="29811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Start, f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886360" y="355608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759280" y="37069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130880" y="39686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395960" y="4309920"/>
            <a:ext cx="16714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est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110280" y="4311720"/>
            <a:ext cx="18892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opBox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5354640" y="3154320"/>
            <a:ext cx="1096920" cy="64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291440" y="4768920"/>
            <a:ext cx="212580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opEllipse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362800" y="3968640"/>
            <a:ext cx="5040" cy="785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062160" y="4795920"/>
            <a:ext cx="17510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49560" y="3979800"/>
            <a:ext cx="1800" cy="808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909720" y="4781520"/>
            <a:ext cx="86184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765440" y="4925880"/>
            <a:ext cx="1276200" cy="6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1644480" y="4659480"/>
            <a:ext cx="13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6760" y="5626080"/>
            <a:ext cx="944388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ures can have one or many 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orAt(int x, int y) returns a connector for the given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nect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h text to arbitrary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 to adjust the location of the connec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gure is an Ob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y Method: Figure.textLocatorAt() defines location of connec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ing off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ors can be decorated by an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281640" y="3619440"/>
            <a:ext cx="86184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c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5025960" y="5245200"/>
            <a:ext cx="15429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ve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908760" y="5246640"/>
            <a:ext cx="137484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fsetLo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307200" y="3976560"/>
            <a:ext cx="844560" cy="32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92760" y="437508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566040" y="46958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05360" y="4843440"/>
            <a:ext cx="180684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802480" y="4857840"/>
            <a:ext cx="1440" cy="3776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10400" y="485784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85040" y="5622840"/>
            <a:ext cx="79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9093240" y="3976560"/>
            <a:ext cx="4680" cy="164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145280" y="3975120"/>
            <a:ext cx="19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08760" y="5587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908760" y="5715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Key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Screen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Direct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presentation, commands, even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  <a:ea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JHotDraw presentation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t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o is responsible for all thi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want to support both Applets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Applets and Applications don't share a common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s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JHotDraw - solving design problems with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apply GoF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  <a:ea typeface="Arial"/>
              </a:rPr>
              <a:t>apply Smalltalk best practic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awing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Editor is defined as a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a standard UI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ets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common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768920" y="1450800"/>
            <a:ext cx="4691160" cy="16066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Edi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View view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ing draw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 too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ionChanged(DrawingView vie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howStatus(String strin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085920" y="4782960"/>
            <a:ext cx="147492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Draw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Vie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Tool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Button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524560" y="3719520"/>
            <a:ext cx="142416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235560" y="4057560"/>
            <a:ext cx="3240" cy="4255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108840" y="43689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7569360" y="4782960"/>
            <a:ext cx="1879560" cy="139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Draw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View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Tool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Menu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429000" y="3719520"/>
            <a:ext cx="7621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8128080" y="3719520"/>
            <a:ext cx="7430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8508960" y="4057560"/>
            <a:ext cx="3240" cy="71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381880" y="43689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3822840" y="4057560"/>
            <a:ext cx="2880" cy="71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695760" y="43689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936960" y="4521240"/>
            <a:ext cx="45338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3111480" y="514368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4560" y="5130720"/>
            <a:ext cx="185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faul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wingApplet and DrawingApplication define a defaul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presentations need to be ext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rs want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t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t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lication/Apple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Factory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classes override factory methods to add their custom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Pert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022480" y="2467080"/>
            <a:ext cx="5778360" cy="39466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tAppli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xtends DrawApplica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tected voi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Too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Panel palet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er.createTools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let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 to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 = new PertFigureCreationToo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lette.add(createToolButton("PERT", "Task Tool", too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 = new ConnectionTool(new PertDependency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lette.add(createToolButton("CONN", "Dependency Tool", too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tApplication pert = new PertApplica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t.ope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ways to change a dra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s: cursor track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les: direct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changes are invoked from menus or but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, group, ungroup, duplicate, alig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ttered points of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212760">
              <a:lnSpc>
                <a:spcPct val="100000"/>
              </a:lnSpc>
              <a:buClr>
                <a:srgbClr val="3365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ttons, m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s should be reusab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should be easy to add new commands without having to change exis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o (would be nic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 can be executable or non-executable depending on the UI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s need to be self conta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and (cont'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06440" y="952560"/>
            <a:ext cx="9443880" cy="54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ify request for 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the Command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ands are invok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us, Butt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Command*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Button, Command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nents are configured with a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ke a command when they ar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846680" y="4479840"/>
            <a:ext cx="4797360" cy="2031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 f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ommand(String name)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Name =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void execute(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boolean isExecuta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5829480" y="296532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andWidgets and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308560" y="1081080"/>
            <a:ext cx="107964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ecu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315040" y="1471680"/>
            <a:ext cx="1074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097080" y="3718080"/>
            <a:ext cx="161280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818400" y="3727440"/>
            <a:ext cx="18795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plicate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842080" y="1841400"/>
            <a:ext cx="3240" cy="77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711760" y="32558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919680" y="3409920"/>
            <a:ext cx="3843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913200" y="341460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7761240" y="3414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898880" y="3716280"/>
            <a:ext cx="181944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group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565360" y="1093680"/>
            <a:ext cx="165096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and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568600" y="1486080"/>
            <a:ext cx="164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19560" y="148608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54160" y="2314440"/>
            <a:ext cx="1425600" cy="75564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Drawing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createButton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4440" y="2666880"/>
            <a:ext cx="139536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63560" y="2705040"/>
            <a:ext cx="1424160" cy="1155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222200" y="1500120"/>
            <a:ext cx="1344960" cy="11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208160" y="153828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205160" y="1206360"/>
            <a:ext cx="105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84120" y="4676760"/>
            <a:ext cx="94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and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tCommand, CopyCommand, PasteCommand, DuplicateCommand, Delete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Command, UngroupCommand, InsertFigure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Attribute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ignCommand, Match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48040" y="2630520"/>
            <a:ext cx="21859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24360" y="210024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7910640" y="2606760"/>
            <a:ext cx="131616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wing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950160" y="2768760"/>
            <a:ext cx="97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DK 1.1 Delegation Based Event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 safe updat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objects to pass chang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DK 1.1: Delegation Event Model (Observer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d Mess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434280" y="2820960"/>
            <a:ext cx="12477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t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7143840" y="4027320"/>
            <a:ext cx="12574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5775480" y="4027320"/>
            <a:ext cx="12463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951280" y="2809800"/>
            <a:ext cx="138600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t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104240" y="3171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973920" y="348300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386400" y="3637080"/>
            <a:ext cx="137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765920" y="3643200"/>
            <a:ext cx="6480" cy="36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6375240" y="3635280"/>
            <a:ext cx="3240" cy="36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357280" y="3713040"/>
            <a:ext cx="258120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Performed(Action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62320" y="407664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645000" y="3162240"/>
            <a:ext cx="4680" cy="538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521160" y="33019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347920" y="4989600"/>
            <a:ext cx="258120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Performed(Action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49360" y="53467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622680" y="4473720"/>
            <a:ext cx="6480" cy="5140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483000" y="46609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940280" y="4210200"/>
            <a:ext cx="847800" cy="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06480" y="3867120"/>
            <a:ext cx="1097280" cy="321120"/>
            <a:chOff x="906480" y="3867120"/>
            <a:chExt cx="1097280" cy="321120"/>
          </a:xfrm>
        </p:grpSpPr>
        <p:sp>
          <p:nvSpPr>
            <p:cNvPr id="1039" name=""/>
            <p:cNvSpPr txBox="1"/>
            <p:nvPr/>
          </p:nvSpPr>
          <p:spPr>
            <a:xfrm>
              <a:off x="906480" y="3867120"/>
              <a:ext cx="96516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98640" y="3876840"/>
              <a:ext cx="105120" cy="311400"/>
            </a:xfrm>
            <a:custGeom>
              <a:avLst/>
              <a:gdLst/>
              <a:ahLst/>
              <a:rect l="0" t="0" r="r" b="b"/>
              <a:pathLst>
                <a:path w="292" h="865">
                  <a:moveTo>
                    <a:pt x="0" y="865"/>
                  </a:moveTo>
                  <a:lnTo>
                    <a:pt x="292" y="865"/>
                  </a:lnTo>
                  <a:lnTo>
                    <a:pt x="145" y="0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DK 1.1 Event Handling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06440" y="952560"/>
            <a:ext cx="94438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ents have to register for the events they are interes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 safe interface for deliver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ble with new kinds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7594560" y="1550880"/>
            <a:ext cx="12477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t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8304120" y="2757600"/>
            <a:ext cx="125748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935760" y="2757600"/>
            <a:ext cx="124632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4276800" y="1844640"/>
            <a:ext cx="138600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t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264520" y="1901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8134200" y="221292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547040" y="2367000"/>
            <a:ext cx="137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8926560" y="2373480"/>
            <a:ext cx="6480" cy="36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7539120" y="2365200"/>
            <a:ext cx="4680" cy="37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206360" y="2475000"/>
            <a:ext cx="1751040" cy="118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ActionListen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FocusListen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seUp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01680" y="2827440"/>
            <a:ext cx="1751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962440" y="2916360"/>
            <a:ext cx="1274760" cy="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4240080" y="2762280"/>
            <a:ext cx="1454040" cy="3301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70520" y="2197080"/>
            <a:ext cx="4680" cy="538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846680" y="23367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710320" y="2940120"/>
            <a:ext cx="12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93840" y="4098960"/>
            <a:ext cx="4379760" cy="34452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ener.actionPerformed(new ActionEvent(this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490840" y="3432240"/>
            <a:ext cx="127080" cy="127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554200" y="3559320"/>
            <a:ext cx="0" cy="537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940120" y="258300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1782720" y="1976400"/>
            <a:ext cx="869760" cy="404640"/>
            <a:chOff x="1782720" y="1976400"/>
            <a:chExt cx="869760" cy="404640"/>
          </a:xfrm>
        </p:grpSpPr>
        <p:sp>
          <p:nvSpPr>
            <p:cNvPr id="1064" name=""/>
            <p:cNvSpPr txBox="1"/>
            <p:nvPr/>
          </p:nvSpPr>
          <p:spPr>
            <a:xfrm>
              <a:off x="1782720" y="1976400"/>
              <a:ext cx="82692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38200" y="2276280"/>
              <a:ext cx="314280" cy="104760"/>
            </a:xfrm>
            <a:custGeom>
              <a:avLst/>
              <a:gdLst/>
              <a:ahLst/>
              <a:rect l="0" t="0" r="r" b="b"/>
              <a:pathLst>
                <a:path w="873" h="291">
                  <a:moveTo>
                    <a:pt x="0" y="0"/>
                  </a:moveTo>
                  <a:lnTo>
                    <a:pt x="20" y="291"/>
                  </a:lnTo>
                  <a:lnTo>
                    <a:pt x="87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DK 1.1 Event Handling: Adap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06440" y="930240"/>
            <a:ext cx="944388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8200" indent="-268200">
              <a:lnSpc>
                <a:spcPct val="100000"/>
              </a:lnSpc>
              <a:spcBef>
                <a:spcPts val="2401"/>
              </a:spcBef>
              <a:spcAft>
                <a:spcPts val="479"/>
              </a:spcAft>
              <a:buClr>
                <a:srgbClr val="3365fb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: lots of little adapte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: actionPerformed to a target specific 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2960" indent="-2127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12760">
              <a:lnSpc>
                <a:spcPct val="100000"/>
              </a:lnSpc>
              <a:buClr>
                <a:srgbClr val="3365fb"/>
              </a:buClr>
              <a:buSzPct val="45000"/>
              <a:buFont typeface="Marlett"/>
              <a:buChar char="8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DK 1.1. (anonymous) inner classes provide syntactic sugar for implementing adap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382840" y="2087640"/>
            <a:ext cx="2581200" cy="7556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Performed(Action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387520" y="245124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373480" y="3363840"/>
            <a:ext cx="2728800" cy="75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rtAnima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Performed(ActionEvent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374920" y="372096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648240" y="2847960"/>
            <a:ext cx="6120" cy="514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08200" y="3035160"/>
            <a:ext cx="248040" cy="152640"/>
          </a:xfrm>
          <a:custGeom>
            <a:avLst/>
            <a:gdLst/>
            <a:ahLst/>
            <a:rect l="0" t="0" r="r" b="b"/>
            <a:pathLst>
              <a:path w="689" h="424">
                <a:moveTo>
                  <a:pt x="0" y="424"/>
                </a:moveTo>
                <a:lnTo>
                  <a:pt x="689" y="424"/>
                </a:lnTo>
                <a:lnTo>
                  <a:pt x="344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173640" y="3544920"/>
            <a:ext cx="1463760" cy="968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im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rtAnima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pAnima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79960" y="3720960"/>
            <a:ext cx="1106640" cy="6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184800" y="39243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3732120" y="4886280"/>
            <a:ext cx="2463840" cy="29988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Target.startAnimatio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90960" y="3902040"/>
            <a:ext cx="127080" cy="127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4952880" y="4029120"/>
            <a:ext cx="1800" cy="857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5048280" y="342252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1312920" y="3652920"/>
            <a:ext cx="995760" cy="319320"/>
            <a:chOff x="1312920" y="3652920"/>
            <a:chExt cx="995760" cy="319320"/>
          </a:xfrm>
        </p:grpSpPr>
        <p:sp>
          <p:nvSpPr>
            <p:cNvPr id="1082" name=""/>
            <p:cNvSpPr txBox="1"/>
            <p:nvPr/>
          </p:nvSpPr>
          <p:spPr>
            <a:xfrm>
              <a:off x="1312920" y="3652920"/>
              <a:ext cx="855720" cy="3049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03560" y="3660840"/>
              <a:ext cx="105120" cy="311400"/>
            </a:xfrm>
            <a:custGeom>
              <a:avLst/>
              <a:gdLst/>
              <a:ahLst/>
              <a:rect l="0" t="0" r="r" b="b"/>
              <a:pathLst>
                <a:path w="292" h="865">
                  <a:moveTo>
                    <a:pt x="0" y="865"/>
                  </a:moveTo>
                  <a:lnTo>
                    <a:pt x="292" y="865"/>
                  </a:lnTo>
                  <a:lnTo>
                    <a:pt x="145" y="0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03200" y="255600"/>
            <a:ext cx="9450360" cy="5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36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DK 1.1 Event Handling: Syntactic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68440" y="1395360"/>
            <a:ext cx="7891560" cy="271476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im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uItem mi = new MenuItem("Start Animatio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.addActionListene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ctionPerformed(ActionEvent eve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Anima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u.add(m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TI Employee</cp:lastModifiedBy>
  <cp:revision>0</cp:revision>
  <dc:subject/>
  <dc:title>No Slide Title</dc:title>
</cp:coreProperties>
</file>